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D480-A191-4C83-85D4-425C7727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20A3-DA46-4292-8533-BB2889AF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834-01D8-4099-B93A-D4A21946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136-8B0B-48BA-9193-560BD076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D97-354B-4677-9731-F2B63083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D41B-1E3D-417D-827B-824AD75F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61C-FDEC-4066-A1A8-A8942D16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B5D-8736-4138-A528-62C2D25A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BD7-04D6-40CA-8A71-A1611830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042-BDC7-4A62-BE7B-F773B8AD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D3C-91B7-4D82-B792-58419D0B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A264-2940-4443-9F3F-547DC30D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B787-166F-4C7D-807D-36FAAD2F4D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8680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b00000"/>
                </a:solidFill>
                <a:latin typeface="Times New Roman"/>
              </a:rPr>
              <a:t>Про стан роботи навчальних закладів з педагогічними кадрами у 2015/2016 навчальному році та дотримання вимог чинного законодавства </a:t>
            </a:r>
            <a:r>
              <a:rPr b="1" lang="uk-UA" sz="3400" spc="-1" strike="noStrike">
                <a:solidFill>
                  <a:srgbClr val="000000"/>
                </a:solidFill>
                <a:latin typeface="Times New Roman"/>
              </a:rPr>
              <a:t>про державну службу в місцевих органах виконавчої влади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92000" y="4929120"/>
            <a:ext cx="50086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Times New Roman"/>
              </a:rPr>
              <a:t>Овсяннікова К.М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Times New Roman"/>
              </a:rPr>
              <a:t>Головний спеціаліст відділу освіти Чугуївської міської ра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Відомості про вчителів, які працюють у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навчальних закладах не за фах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39640" y="1409760"/>
          <a:ext cx="7993080" cy="4683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409760"/>
                    <a:ext cx="799308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928880" y="285840"/>
            <a:ext cx="721512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Кваліфікаційний рівень педагогічних працівників у відсотк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Диаграмма 4" descr=""/>
          <p:cNvPicPr/>
          <p:nvPr/>
        </p:nvPicPr>
        <p:blipFill>
          <a:blip r:embed="rId2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1" name="Диаграмма 5" descr=""/>
          <p:cNvPicPr/>
          <p:nvPr/>
        </p:nvPicPr>
        <p:blipFill>
          <a:blip r:embed="rId3"/>
          <a:stretch/>
        </p:blipFill>
        <p:spPr>
          <a:xfrm>
            <a:off x="0" y="0"/>
            <a:ext cx="8935920" cy="65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1214280" y="428760"/>
            <a:ext cx="71438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800000"/>
                </a:solidFill>
                <a:latin typeface="Times New Roman"/>
              </a:rPr>
              <a:t>Відомчі нагороди Міністерства освіти і науки України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714240" y="1571760"/>
            <a:ext cx="7929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00"/>
                </a:solidFill>
                <a:latin typeface="Times New Roman"/>
              </a:rPr>
              <a:t>Указ Президента України від 30 травня 2012 року № 365 “Про відомчі заохочувальні відзнаки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00"/>
                </a:solidFill>
                <a:latin typeface="Times New Roman"/>
              </a:rPr>
              <a:t>Наказ Міністерства освіти і науки України від 30.07.2013 № 1047 «Про затвердження Положення про відомчі заохочувальні відзнаки Міністерства освіти і науки України», зареєстрований в Міністерстві юстиції України 19.08.2013 за № 1427/2395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800000"/>
                </a:solidFill>
                <a:latin typeface="Times New Roman"/>
              </a:rPr>
              <a:t>У 2015 році до навчальних закладів міста </a:t>
            </a:r>
            <a:r>
              <a:rPr b="0" lang="uk-UA" sz="4000" spc="-1" strike="noStrike" u="sng">
                <a:solidFill>
                  <a:srgbClr val="cc0000"/>
                </a:solidFill>
                <a:uFillTx/>
                <a:latin typeface="Times New Roman"/>
              </a:rPr>
              <a:t>не прибуло</a:t>
            </a:r>
            <a:r>
              <a:rPr b="0" lang="uk-UA" sz="4000" spc="-1" strike="noStrike">
                <a:solidFill>
                  <a:srgbClr val="800000"/>
                </a:solidFill>
                <a:latin typeface="Times New Roman"/>
              </a:rPr>
              <a:t> жодного молодого спеціаліс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357120"/>
            <a:ext cx="92869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станова Кабінету Міністрів України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ід 15.04.2015 № 216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«Про внесення змін до постанови Кабінету Міністрів України від 22 серпня 1996 р. № 992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14200" y="2071800"/>
            <a:ext cx="8929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Times New Roman"/>
              </a:rPr>
              <a:t>Лист Міністерства освіти і науки України </a:t>
            </a:r>
            <a:br>
              <a:rPr sz="2400"/>
            </a:br>
            <a:r>
              <a:rPr b="1" lang="uk-UA" sz="2400" spc="-1" strike="noStrike">
                <a:solidFill>
                  <a:srgbClr val="002060"/>
                </a:solidFill>
                <a:latin typeface="Times New Roman"/>
              </a:rPr>
              <a:t>№ 1/9-216 від 28.04.2015 рок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571680" y="3071880"/>
            <a:ext cx="82864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Times New Roman"/>
              </a:rPr>
              <a:t>Відповідно до основних положень Закону України “Про вищу освіту”, постановою Кабінету Міністрів України від 15 квітня 2015 року № 216 скасовано норму щодо обов'язковості відпрацювання випускниками вищих навчальних закладів та відшкодування ними вартості навчання (крім осіб, що навчаються за спеціальностями медичного профілю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</a:rPr>
              <a:t>Лист Міністерства освіти і науки України </a:t>
            </a:r>
            <a:br>
              <a:rPr sz="4400"/>
            </a:br>
            <a:r>
              <a:rPr b="1" lang="uk-UA" sz="4400" spc="-1" strike="noStrike">
                <a:solidFill>
                  <a:srgbClr val="ff0000"/>
                </a:solidFill>
                <a:latin typeface="Times New Roman"/>
              </a:rPr>
              <a:t>№ 1/9-309 від 26.06.2015 року</a:t>
            </a: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Times New Roman"/>
              </a:rPr>
              <a:t>“Роз'яснення щодо питань працевлаштування випускників ВНЗ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uk-UA" sz="4000" spc="-1" strike="noStrike" u="sng">
                <a:solidFill>
                  <a:srgbClr val="cc0000"/>
                </a:solidFill>
                <a:uFillTx/>
                <a:latin typeface="Times New Roman"/>
              </a:rPr>
              <a:t>Дякую за увагу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8001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00"/>
                </a:solidFill>
                <a:latin typeface="Times New Roman"/>
              </a:rPr>
              <a:t>Відомості про кількість педагогічних працівникі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340000" y="1557360"/>
          <a:ext cx="6408720" cy="460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1557360"/>
                    <a:ext cx="640872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800000"/>
                </a:solidFill>
                <a:latin typeface="Times New Roman"/>
              </a:rPr>
              <a:t>Інформація про віковий склад педагогічних працівникі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Rectangle 3"/>
          <p:cNvGraphicFramePr/>
          <p:nvPr/>
        </p:nvGraphicFramePr>
        <p:xfrm>
          <a:off x="395280" y="1413000"/>
          <a:ext cx="8137440" cy="5184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8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13744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Скругленная прямоугольная выноска 7"/>
          <p:cNvSpPr/>
          <p:nvPr/>
        </p:nvSpPr>
        <p:spPr>
          <a:xfrm>
            <a:off x="6877080" y="3789360"/>
            <a:ext cx="928800" cy="428760"/>
          </a:xfrm>
          <a:prstGeom prst="wedgeRoundRectCallout">
            <a:avLst>
              <a:gd name="adj1" fmla="val 7407"/>
              <a:gd name="adj2" fmla="val 149509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</a:rPr>
              <a:t>+9,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800000"/>
                </a:solidFill>
                <a:latin typeface="Times New Roman"/>
              </a:rPr>
              <a:t>Інформація про стаж роботи педагогічних працівників на займаних посада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Rectangle 3"/>
          <p:cNvGraphicFramePr/>
          <p:nvPr/>
        </p:nvGraphicFramePr>
        <p:xfrm>
          <a:off x="971640" y="1341360"/>
          <a:ext cx="7561080" cy="468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341360"/>
                    <a:ext cx="756108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Відомості про кваліфікаційний рівень керівників навчальних закладі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00000" y="1341360"/>
          <a:ext cx="7858080" cy="5048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341360"/>
                    <a:ext cx="785808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Якісний склад педагогічних працівників</a:t>
            </a:r>
            <a:br>
              <a:rPr sz="2400"/>
            </a:b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 загальноосвітніх навчальних закладів м. Чугує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5280" y="1052640"/>
          <a:ext cx="8229600" cy="5200560"/>
        </p:xfrm>
        <a:graphic>
          <a:graphicData uri="http://schemas.openxmlformats.org/drawingml/2006/table">
            <a:tbl>
              <a:tblPr/>
              <a:tblGrid>
                <a:gridCol w="1373040"/>
                <a:gridCol w="754200"/>
                <a:gridCol w="471600"/>
                <a:gridCol w="623880"/>
                <a:gridCol w="480960"/>
                <a:gridCol w="549360"/>
                <a:gridCol w="615960"/>
                <a:gridCol w="617400"/>
                <a:gridCol w="547560"/>
                <a:gridCol w="617760"/>
                <a:gridCol w="685800"/>
                <a:gridCol w="892080"/>
              </a:tblGrid>
              <a:tr h="48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та № заклад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ількість педпра-цівників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ють категорі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ють зва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ють освіт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ількість пенсіонер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щ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іс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рший учит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методис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щ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ю спеціаль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ЗОШ №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9(18,4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Ш №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(10,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Гімназія №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3(31,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НВК №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(18,4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Ш №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(6,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Ш №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(12,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КБ З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(20,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П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33,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ь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(16,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Якісний склад педагогічних працівників </a:t>
            </a:r>
            <a:br>
              <a:rPr sz="2400"/>
            </a:b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дошкільних навчальних закладів м. Чугує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9640" y="1341360"/>
          <a:ext cx="8229600" cy="4548240"/>
        </p:xfrm>
        <a:graphic>
          <a:graphicData uri="http://schemas.openxmlformats.org/drawingml/2006/table">
            <a:tbl>
              <a:tblPr/>
              <a:tblGrid>
                <a:gridCol w="1206360"/>
                <a:gridCol w="709920"/>
                <a:gridCol w="637920"/>
                <a:gridCol w="425520"/>
                <a:gridCol w="566640"/>
                <a:gridCol w="668520"/>
                <a:gridCol w="611280"/>
                <a:gridCol w="610920"/>
                <a:gridCol w="544680"/>
                <a:gridCol w="612720"/>
                <a:gridCol w="679320"/>
                <a:gridCol w="955800"/>
              </a:tblGrid>
              <a:tr h="48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та № заклад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ількість педпра-цівників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ють категорі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ють зва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ють освіт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ількість пенсіонер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щ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іс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рший учит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методис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щ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ю спеціаль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НЗ №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1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НЗ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НЗ №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3,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НЗ №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14,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НЗ №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(17,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НЗ №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(14,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ь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(11,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Якісний склад педагогічних працівників </a:t>
            </a:r>
            <a:br>
              <a:rPr sz="2400"/>
            </a:b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позашкільних навчальних закладів м. Чугує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341360"/>
          <a:ext cx="8229240" cy="4525560"/>
        </p:xfrm>
        <a:graphic>
          <a:graphicData uri="http://schemas.openxmlformats.org/drawingml/2006/table">
            <a:tbl>
              <a:tblPr/>
              <a:tblGrid>
                <a:gridCol w="1227240"/>
                <a:gridCol w="689040"/>
                <a:gridCol w="636840"/>
                <a:gridCol w="426600"/>
                <a:gridCol w="566640"/>
                <a:gridCol w="668520"/>
                <a:gridCol w="611280"/>
                <a:gridCol w="610920"/>
                <a:gridCol w="545040"/>
                <a:gridCol w="610920"/>
                <a:gridCol w="681120"/>
                <a:gridCol w="955080"/>
              </a:tblGrid>
              <a:tr h="717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та № заклад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ількість педпра-цівників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ють категорі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ють зва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ють освіт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ількість пенсіонер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щ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іс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рший учит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методис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щ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ю спеціаль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Д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(13,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Т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ЮС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(13,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ь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(9,4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ff0000"/>
                </a:solidFill>
                <a:latin typeface="Times New Roman"/>
              </a:rPr>
              <a:t>Відомості про освітній рівень педагогічних працівників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9280" y="2781360"/>
          <a:ext cx="6336000" cy="391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781360"/>
                    <a:ext cx="633600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500720" y="1125360"/>
          <a:ext cx="4248000" cy="1698840"/>
        </p:xfrm>
        <a:graphic>
          <a:graphicData uri="http://schemas.openxmlformats.org/drawingml/2006/table">
            <a:tbl>
              <a:tblPr/>
              <a:tblGrid>
                <a:gridCol w="905040"/>
                <a:gridCol w="1218960"/>
                <a:gridCol w="1062000"/>
                <a:gridCol w="10620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щ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я спеціаль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2 (97,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(2,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Н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 (54,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(43,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Н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(86,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(7,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(5,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/>
  <dc:description/>
  <dc:language>en-US</dc:language>
  <cp:lastModifiedBy>User</cp:lastModifiedBy>
  <dcterms:modified xsi:type="dcterms:W3CDTF">2015-11-01T20:39:44Z</dcterms:modified>
  <cp:revision>55</cp:revision>
  <dc:subject/>
  <dc:title>Презентация PowerPoint</dc:title>
</cp:coreProperties>
</file>