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5122-43F5-4327-8A22-AF663881D75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E2FA-1115-4ABA-ADD8-D28E782D87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7F15-AB52-4CF3-9B6A-26D561AA7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8D8A-65FD-4D20-86FC-1FE05ED6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38EF-1E9B-4450-8FEB-24901BC5E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9B6E-D6DA-4CDD-AA47-29532D117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ADD5-176A-42C7-8544-0F46FE34D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5C80-4DA4-4264-89BC-11DD9E41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CC0A-8B8B-432C-8804-21843E1D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3637-3B52-432F-AB8C-6C8AB971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C308-59AE-42F1-AA5C-5B841D9C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23FC-BD61-45C2-BC12-E5CC1F29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B912-BD89-46F7-A735-3124B2AF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711E-DEE8-4556-8886-6297995A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81F2-C3E3-4800-885B-145C28B4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237B-60A7-425A-AD08-8CB2BA1E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96A59-271C-408C-A502-18085358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2E46-1897-4485-A4C6-7C7A99CBE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D5ED-C873-438A-AACE-CC44CBA41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1019F-5512-4228-BB74-C12FE5D40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4A683-A731-4F73-B43E-0C0CD919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3DE2F-C4FA-443B-86FC-74D9A027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B2C55-24D5-44EA-97DD-DF3740FD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3811A-FE5C-42ED-9437-2C4DD21E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9C3E-BF73-4355-BF8A-C931D9C7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36B2C-F801-41E9-952D-79AE7C10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F78DB-9412-4A47-AC79-E8BF2637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0CD16-8236-4698-AFA1-2D640C9B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60B5C-44B9-4EA3-BA45-0FEFB66B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B53B9-B9DC-4611-B46A-A195DAD9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4B030-85FA-476A-9C03-75C592CA5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A3051-E577-4303-AFF7-CD1ECD7AE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37B4-FFFD-47DD-860A-C1FCEE08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F62F-A21B-4746-8243-3F110126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A6D4-8241-497E-9829-565CD1D2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6077-3AD7-4C5C-A9F3-E34D90F9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8885-2906-4870-86A5-0DAC97FC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EC4B-8D5A-457D-A172-B3D85E6E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e7e7e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cbcbc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F83D-FC7E-4FE0-AB0B-BD6315CD02B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F2C3-C561-465F-B98B-899A70951DB7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Полилиния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5" name="Полилиния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Полилиния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Полилиния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2149-69CA-4611-A951-D79EFB1C77E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Rectangle 2" descr=""/>
          <p:cNvPicPr/>
          <p:nvPr/>
        </p:nvPicPr>
        <p:blipFill>
          <a:blip r:embed="rId1">
            <a:biLevel thresh="50000"/>
          </a:blip>
          <a:stretch/>
        </p:blipFill>
        <p:spPr>
          <a:xfrm rot="522600">
            <a:off x="2881440" y="1387440"/>
            <a:ext cx="5940360" cy="24382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94920" y="5013360"/>
            <a:ext cx="5832360" cy="1341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31423"/>
                </a:solidFill>
                <a:latin typeface="Times New Roman"/>
              </a:rPr>
              <a:t>Овсяннікова К.М.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31423"/>
                </a:solidFill>
                <a:latin typeface="Times New Roman"/>
              </a:rPr>
              <a:t>Головний спеціаліст відділу освіти Чугуївської міської ра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57120" y="189000"/>
            <a:ext cx="8080560" cy="102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имоги до змісту  </a:t>
            </a:r>
            <a:br>
              <a:rPr sz="3200"/>
            </a:br>
            <a:r>
              <a:rPr b="1" lang="uk-UA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розділу </a:t>
            </a:r>
            <a:r>
              <a:rPr b="1" lang="ru-RU" sz="32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«</a:t>
            </a:r>
            <a:r>
              <a:rPr b="1" lang="uk-UA" sz="32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Загальні положення</a:t>
            </a:r>
            <a:r>
              <a:rPr b="1" lang="ru-RU" sz="32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»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14200" y="1285560"/>
            <a:ext cx="8715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озділі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льні положення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струкції містяться основні дані про посаду, сферу діяльності працівника, найменування підрозділу,  де працює працівник, порядок призначення на посаду та звільнення, безпосередню підпорядкованість, нормативні документи,  якими він керується  у своїй роботі, хто замінює працівника у його відсутність та кого замінює він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-28620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Вимоги до змісту  розділів </a:t>
            </a:r>
            <a:r>
              <a:rPr b="1" lang="uk-UA" sz="27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 </a:t>
            </a:r>
            <a:r>
              <a:rPr b="1" lang="uk-UA" sz="2700" spc="-1" strike="noStrike">
                <a:solidFill>
                  <a:srgbClr val="08684e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42920" y="785880"/>
            <a:ext cx="88581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озділі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дання  та обов'язк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едено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ов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ійні завдання, обов'язки та повноваженн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вної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ади,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илання на галузь необхідних знан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Для педагогічних працівників визначаються Кваліфікаційними характеристиками професій (посад) педагогічних та науково-педагогічних працівників навчальних закладів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ділі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ава»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аються  і   наводяться делеговані працівникові   повноваження,   за  допомогою  яких  працівник  має забезпечувати в процесі своєї діяльності виконання  покладених  на нього  завдань  та  обов'язків.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5840" y="277560"/>
            <a:ext cx="840096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uk-UA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имоги до змісту  розділів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-360" y="857160"/>
            <a:ext cx="889308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діл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uk-U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альність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r>
              <a:rPr b="1" lang="uk-U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uk-U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істить  показники  оцінки  роботи працівника та межі його особистої відповідальності  за  результати діяльності та виконання робіт. 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озділі  </a:t>
            </a:r>
            <a:r>
              <a:rPr b="1" lang="uk-U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нання, уміння та навички» </a:t>
            </a:r>
            <a:r>
              <a:rPr b="0" lang="uk-U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одяться основні вимоги до спеціальних знань, необхідних для виконання відповідних типових завдань, а також знань законодавчих актів, положень, інструкцій та інших нормативних документів, методів і засобів, які працівник повинен вміти застосовувати під час виконання своїх професійних обов'язків. (Для педагогічних працівників визначаються Кваліфікаційними характеристиками професій (посад) педагогічних та науково-педагогічних працівників навчальних закладів)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25804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uk-UA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имоги до змісту  розділів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1142640"/>
            <a:ext cx="88930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діл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валіфікаційні вимоги»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істить норми, які стосуються професійної освіти та досвіду, достатніх для повного та якісного виконання робіт за професією. (Для педагогічних працівників визначаються Кваліфікаційними характеристиками професій (посад) педагогічних та науково-педагогічних працівників навчальних закладів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ділі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заємовідносини»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ається коло основних взаємозв'язків працівника із співробітниками свого та інших структурних підрозділів, а також зі сторонніми підприємствами, організаціями, установами, з якими працівник має службові взаємовідносин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 algn="just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400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бочі інструкції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14200" y="857160"/>
            <a:ext cx="8715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ретний перелік робочих обов'язків визначається робочими інструкціями, які розробляють і затверджують на основі Довідника роботодавці, ураховуючи конкретні завдання та обов'язки, права, відповідальність робітників та особливості штатного розпису підприємства, установи, організації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 час розроблення робочих інструкцій забезпечується єдиний підхід до побудови структури і викладу змісту розділів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боча інструкція та зміни до неї погоджується профспілковим комітетом або іншим уповноваженим робочим органом трудового колектив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Rectangle 4" descr=""/>
          <p:cNvPicPr/>
          <p:nvPr/>
        </p:nvPicPr>
        <p:blipFill>
          <a:blip r:embed="rId1"/>
          <a:stretch/>
        </p:blipFill>
        <p:spPr>
          <a:xfrm>
            <a:off x="317520" y="1365120"/>
            <a:ext cx="8674200" cy="184788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6058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Стаття 29</a:t>
            </a:r>
            <a:r>
              <a:rPr b="0" lang="en-US" sz="3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</a:t>
            </a:r>
            <a:r>
              <a:rPr b="0" lang="uk-UA" sz="3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КЗпП України: </a:t>
            </a:r>
            <a:br>
              <a:rPr sz="2200"/>
            </a:b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14200" y="1285560"/>
            <a:ext cx="8715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початку роботи за укладеним трудовим договором власник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бов’язаний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’яснити працівникові його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а і обов’язки (Посадові (робочі) інструкції,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водяться працівнику під підпис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йомити працівника з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ми внутрішнього трудового розпорядку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алі Правила) та колективним договором (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одяться працівник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ід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пис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28400" y="260280"/>
            <a:ext cx="825804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Посадові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 (</a:t>
            </a: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робочі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)</a:t>
            </a: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 інструкції працівникам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42560" y="1356840"/>
            <a:ext cx="865836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адові (робочі) інструкції (далі Інструкції) складаються  працівникам усіх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ад,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 зазначені в штатному розписі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кладанні Інструкції враховуються рекомендації з організації служби охорони праці в освітніх закладах системи Міністерства освіти і науки України та рекомендації з організації роботи в закладах освіти, підпорядкованих Міністерству освіти і науки Україн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5804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Посадові</a:t>
            </a:r>
            <a:r>
              <a:rPr b="0" lang="en-US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(</a:t>
            </a:r>
            <a:r>
              <a:rPr b="0" lang="uk-UA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робочі</a:t>
            </a:r>
            <a:r>
              <a:rPr b="0" lang="en-US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)</a:t>
            </a:r>
            <a:r>
              <a:rPr b="0" lang="uk-UA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інструкції працівникам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42560" y="1356840"/>
            <a:ext cx="865836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струкції працівникам навчальних закладів розробляються на підставі тарифно-кваліфікаційних  характеристик професій, загальних для всіх бюджетних установ і організацій освіти України, викладених у Довідникові кваліфікаційних характеристик  професій працівників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(ДКХПП)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алі Довідник)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зований за видами економічної діяльності збірник описів професій, які наведено у Класифікаторі професі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К 003-95),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вердженому наказом Міністерства праці та соціальної політики України 29 грудня 2004 року № 336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4617b"/>
                </a:solidFill>
                <a:latin typeface="Calibri"/>
              </a:rPr>
              <a:t>Посадові інструкції </a:t>
            </a:r>
            <a:br>
              <a:rPr sz="4400"/>
            </a:br>
            <a:r>
              <a:rPr b="0" lang="uk-UA" sz="4400" spc="-1" strike="noStrike">
                <a:solidFill>
                  <a:srgbClr val="04617b"/>
                </a:solidFill>
                <a:latin typeface="Calibri"/>
              </a:rPr>
              <a:t>педагогічних працівників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аз Міністерства освіти і науки України від 01.06.2013  № 665 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о  затвердження кваліфікаційних характеристик професій (посад) педагогічних та науково-педагогічних працівників навчальних закладів»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32968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4617b"/>
                </a:solidFill>
                <a:latin typeface="Times New Roman"/>
              </a:rPr>
              <a:t>Вимоги до складання Інструкцій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0" y="836280"/>
            <a:ext cx="8786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струкції, в  яких закріплюються обов'язки, права та відповідальність працівників розробляє власник (керівник підприємства,   організації,   установи) відповідно до вимог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ділу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1" lang="ru-RU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</a:t>
            </a:r>
            <a:r>
              <a:rPr b="1" lang="uk-UA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фесії керівників, професіоналів, фахівців та технічних службовців) - (Посадові інструкції),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но до вимог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ділу 2.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Професії робітників) - (Робочі інструкції)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початку роботи за укладеним трудовим договором власник зобов’язаний 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’яснити працівникові його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а і обов’язки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пис (ст.29 КЗпП України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760" y="277920"/>
            <a:ext cx="821520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4617b"/>
                </a:solidFill>
                <a:latin typeface="Calibri"/>
              </a:rPr>
              <a:t>Порядок затвердження</a:t>
            </a: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uk-UA" sz="2800" spc="-1" strike="noStrike">
                <a:solidFill>
                  <a:srgbClr val="04617b"/>
                </a:solidFill>
                <a:latin typeface="Calibri"/>
              </a:rPr>
              <a:t>Посадової (робочої) інструкції</a:t>
            </a:r>
            <a:r>
              <a:rPr b="0" lang="uk-UA" sz="28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-360" y="999720"/>
            <a:ext cx="9001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авому   куті   першої   сторінки     Інструкції розташовується  гриф 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ВЕРДЖУЮ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підпис  керівника  про   її затвердження,  вказано посаду,  ініціали та прізвище керівника,  а також дата затвердженн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заголовку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струкції  наводиться  повна  назва посади в родовому відмінку (повинна відповідати професійній назві роботи, передбаченій Класифікатором професій ДК 003-95 зі змінами та доповненнями)  та  повна  назва структурного підрозділ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 потреби).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цільно вказати й код професії за Класифікатором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8760" y="277920"/>
            <a:ext cx="821520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1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орядок  внесення змін до</a:t>
            </a:r>
            <a:r>
              <a:rPr b="1" lang="ru-RU" sz="31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uk-UA" sz="31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Інструкції</a:t>
            </a:r>
            <a:endParaRPr b="0" lang="en-US" sz="3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42920" y="1142640"/>
            <a:ext cx="88581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3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До Іструкцій може бути внесено зміни,  доповнення лише  на  підставі  наказу   керівника   підприємства,   установи, організації   за  згодою  працівника.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</a:t>
            </a:r>
            <a:r>
              <a:rPr b="0" lang="uk-UA" sz="23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	</a:t>
            </a:r>
            <a:r>
              <a:rPr b="0" lang="uk-UA" sz="23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Наказ  про  внесення  змін, доповнень до Інструкції видається: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</a:t>
            </a:r>
            <a:r>
              <a:rPr b="0" lang="uk-UA" sz="23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у  разі  перерозподілу обов'язків  між працівниками у зв'язку зі скороченням чисельності;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</a:t>
            </a:r>
            <a:r>
              <a:rPr b="0" lang="uk-UA" sz="23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у  разі  перерозподілу обов'язків  між працівниками у зв'язку з раціональним розподілом праці;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у </a:t>
            </a:r>
            <a:r>
              <a:rPr b="0" lang="uk-UA" sz="23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разі зміни  назви  навчального закладу або </a:t>
            </a:r>
            <a:r>
              <a:rPr b="0" lang="ru-RU" sz="23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посади;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</a:t>
            </a:r>
            <a:r>
              <a:rPr b="0" lang="uk-UA" sz="23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у разі зміни вимог нормативно-правових актів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2920" y="277920"/>
            <a:ext cx="850104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Розділи</a:t>
            </a: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І</a:t>
            </a:r>
            <a:r>
              <a:rPr b="1" lang="uk-UA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нструкції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14200" y="1071360"/>
            <a:ext cx="87868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адові (робочі) інструкції   складаються   із   розділів: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ЗАГАЛЬНІ ПОЛОЖЕННЯ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ЗАВДАННЯ ТА ОБОВ'ЯЗКИ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ПРАВ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ВІДПОВІДАЛЬНІСТЬ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ЗНАННЯ,УМІННЯ ТА НАВИЧК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КВАЛІФІКАЦІЙНІ ВИМОГ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ВЗАЄМОВІДНОСИН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12:01:09Z</dcterms:created>
  <dc:creator>tatar</dc:creator>
  <dc:description/>
  <dc:language>en-US</dc:language>
  <cp:lastModifiedBy>User</cp:lastModifiedBy>
  <dcterms:modified xsi:type="dcterms:W3CDTF">2015-11-11T13:29:46Z</dcterms:modified>
  <cp:revision>610</cp:revision>
  <dc:subject/>
  <dc:title>Основні напрями науково-методичної роботи в інтернатах у 2010-2011 навчальному році та підготовка учнів-вихованців до участі в олімпіадах</dc:title>
</cp:coreProperties>
</file>