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994-7FC3-407E-9880-0A8B48D3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B90-81B4-4BD0-950C-D2CABEF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A7D-45B2-4285-A28D-2FF26817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3CB-F550-49DA-9BD1-412D1B1B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FF3D-3BA2-4477-A041-E42ABF7E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9034-8702-4BDB-89E4-9F0D741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EEE-4009-485E-9D69-70A10B7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7BB-03EA-4CD8-9396-F5F2A9F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354F-3F3C-4503-BC5C-CEC4C33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6B87-1B1D-4B88-ACF6-61D0324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BB79-A1AA-48A1-95FC-16B207F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F5C-22D2-4897-97DB-8AE14F8F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B402-F475-4F67-BFCA-357C4C1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D098-B3F8-4A55-9A9E-A2F6084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CEC5-F7B6-4B1B-98F4-3AD9BEA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F965-D99A-4F92-9483-80884063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CDAA-CFF5-495C-B091-1EA1B33A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DF3-2FFF-49D3-BE54-A9847208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8E0-D668-4FC4-BEB5-8153A4B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FDC-1EEF-4CD8-ABFF-D60903F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62F-A21F-412A-8581-C1D0AE7E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0A7-9D40-49C2-8893-A6C35EBD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7DF-2366-408D-9A34-7BAA6A1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34E-61AF-4B07-AB54-59691AE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C09-874A-45F9-BCAF-BE8E5E5346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04B-4A03-446E-955E-DD7460CBD48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1280" y="5345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a0d00"/>
                </a:solidFill>
                <a:latin typeface="Times New Roman"/>
              </a:rPr>
              <a:t>Овсяннікова К.М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a0d00"/>
                </a:solidFill>
                <a:latin typeface="Times New Roman"/>
              </a:rPr>
              <a:t>головний спеціаліст відділу освіти               Чугуївської міської ра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000" y="119664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e1f00"/>
                </a:solidFill>
                <a:latin typeface="Times New Roman"/>
              </a:rPr>
              <a:t>Про численність і склад педагогічних працівників навчальних закладів міста Чугуєва у 2015/2016 навчальному роц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Проведення державного нагляду (контро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а підставі висновку, рекомендаці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та заперечень (за наявності), не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раніше ніж через 5 робочих днів, але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е пізніше 10 робочих днів з дат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отримання висновку та рекомендаці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атестаційної комісії, орган, як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здійснює державну атестацію, з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результатами державної атестації у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межах своїх повноважень визначає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відповідність освітніх послуг, щ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адаються навчальним  закладом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державним стандартам певног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освітнього рівня та приймає рішенн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о визнання навчального закладу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атестованим чи неатестованим, яке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оформлюється відповідним наказом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За результатами перевірки н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ідставі висновків членів комісії т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документів складається акт пр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оведення перевірки у 2-х (3-х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имірниках за уніфікованою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формою, затвердженою МОНУ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офесійно-технічний, вищ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авчальний заклад (у частині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адання послуг у сфері загальної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середньої освіти) чи місцевий орган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управління освітою (у разі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оведення перевірки дошкільного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загальноосвітнього та позашкільног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навчального закладу) розробляє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протягом 15 днів з дня одержанн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акта про проведення перевірки план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заходів, надсилає до відповідног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органу контролю, інформує його про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стан виконання плану заході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Проведення державного нагляду (контро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ля навчального заклад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ного неатестованим, орга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ий здійснює державн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ю, визначає термі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едення повторної державно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ї (не раніше ніж через од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лендарний рік, але не пізніш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вох календарних років). Пр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вторній державній атестаці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йна експертиз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одиться атестаційно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місією у новому складі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2920" y="1052640"/>
            <a:ext cx="403884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ланові перевірки проводяться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ставі квартальних плані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ганів місцевого контролю, щ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тверджуються їх керівниками 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5 числа останнього місяц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варта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запланова переві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одиться у випадка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дбачених законодав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гляд звернень громадян що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рушень у діяльності Н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дійснюється шляхом провед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їх позапланових вибірков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рок, що можуть бу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їзними або невиїз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Проведення державного нагляду (контро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4691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Якщо за результатами повторної державно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тестації навчальний заклад визн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еатестованим, щодо навчальних закладі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ержавної та комунальної форм власност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рганом, що здійснює державну атестаці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вчального закладу, у межах своїх повноважен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иймається рішення щодо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вільнення керівника навчаль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акладу відповідно до законодавства. При ць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изначається повторна атестація  навчаль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акладу в термін не раніше ніж через оди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лендарний рік, але не пізніше двох календарн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оків з дати призначення нового керівни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вчального заклад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2) перепрофілювання (зміни типу) аб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еорганізації навчального закладу відповідно д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аконодавства та проведення його першої атестації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гідно з абзацом другим п. 3 цього Порядк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3) ліквідації навчального закладу відповід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о законодав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76720" y="836640"/>
            <a:ext cx="3743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разі виявлення під ча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ведення перевірки факт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рушення НЗ вимо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конодавства і держав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дартів комісія має прав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магати від керівника та інш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ацівників НЗ письмов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ясне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що під час перевірки виявлен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рушення вимог держав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дарту освіти або ліцензій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мов, комісія надсилає копію а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ведення перевірки д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ного органу ліцензув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здійснення необхідних заход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7a00"/>
                </a:solidFill>
                <a:latin typeface="Times New Roman"/>
              </a:rPr>
              <a:t>Дякую за увагу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1920" y="1817280"/>
            <a:ext cx="2142360" cy="702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Н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24280" y="701280"/>
            <a:ext cx="3294360" cy="4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вчальні заклади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492360" y="1700280"/>
            <a:ext cx="2233800" cy="865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6300720" y="1557360"/>
            <a:ext cx="2305080" cy="936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62600">
            <a:off x="5651280" y="1413000"/>
            <a:ext cx="863640" cy="171360"/>
          </a:xfrm>
          <a:prstGeom prst="rightArrow">
            <a:avLst>
              <a:gd name="adj1" fmla="val 50000"/>
              <a:gd name="adj2" fmla="val 125998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0410800">
            <a:off x="2050920" y="1413000"/>
            <a:ext cx="1008360" cy="142920"/>
          </a:xfrm>
          <a:prstGeom prst="leftArrow">
            <a:avLst>
              <a:gd name="adj1" fmla="val 50000"/>
              <a:gd name="adj2" fmla="val 176385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1341360"/>
            <a:ext cx="144360" cy="358920"/>
          </a:xfrm>
          <a:prstGeom prst="downArrow">
            <a:avLst>
              <a:gd name="adj1" fmla="val 50000"/>
              <a:gd name="adj2" fmla="val 62157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059280" y="3645000"/>
            <a:ext cx="2736720" cy="115236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2014 році-4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443640" y="5013360"/>
            <a:ext cx="2233800" cy="865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 (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3419640" y="5084640"/>
            <a:ext cx="2233440" cy="86544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 (1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11280" y="5157720"/>
            <a:ext cx="2233440" cy="865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 (3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,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808400">
            <a:off x="1834920" y="4868640"/>
            <a:ext cx="1008000" cy="142560"/>
          </a:xfrm>
          <a:prstGeom prst="leftArrow">
            <a:avLst>
              <a:gd name="adj1" fmla="val 50000"/>
              <a:gd name="adj2" fmla="val 176768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4724280"/>
            <a:ext cx="144360" cy="358920"/>
          </a:xfrm>
          <a:prstGeom prst="downArrow">
            <a:avLst>
              <a:gd name="adj1" fmla="val 50000"/>
              <a:gd name="adj2" fmla="val 62157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505400">
            <a:off x="6084360" y="4724280"/>
            <a:ext cx="863640" cy="171720"/>
          </a:xfrm>
          <a:prstGeom prst="rightArrow">
            <a:avLst>
              <a:gd name="adj1" fmla="val 50000"/>
              <a:gd name="adj2" fmla="val 125734"/>
            </a:avLst>
          </a:prstGeom>
          <a:solidFill>
            <a:srgbClr val="6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3141720"/>
          <a:ext cx="7056360" cy="66816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ctr" pos="111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гальна кількість педагогічних працівників складає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освітою</a:t>
            </a:r>
            <a:br>
              <a:rPr sz="32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(за аналітичним аналізом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844640"/>
          <a:ext cx="7777440" cy="1855800"/>
        </p:xfrm>
        <a:graphic>
          <a:graphicData uri="http://schemas.openxmlformats.org/drawingml/2006/table">
            <a:tbl>
              <a:tblPr/>
              <a:tblGrid>
                <a:gridCol w="3818160"/>
                <a:gridCol w="395928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15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14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ища -  3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6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85,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 -  389 (84,9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еред.-спец. –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9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.-спец. – 41 (9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гальна середня –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0,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8</a:t>
                      </a:r>
                      <a:r>
                        <a:rPr b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ередня – 2 (0,4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03280" y="4005360"/>
          <a:ext cx="6096240" cy="1876320"/>
        </p:xfrm>
        <a:graphic>
          <a:graphicData uri="http://schemas.openxmlformats.org/drawingml/2006/table">
            <a:tbl>
              <a:tblPr/>
              <a:tblGrid>
                <a:gridCol w="1297080"/>
                <a:gridCol w="175104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спеціаль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 (97,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2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(54,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(43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(86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7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5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сний склад педагогічних працівників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загальноосвітніх навчальних закладів м. Чугує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8920" y="907920"/>
          <a:ext cx="8785080" cy="5197680"/>
        </p:xfrm>
        <a:graphic>
          <a:graphicData uri="http://schemas.openxmlformats.org/drawingml/2006/table">
            <a:tbl>
              <a:tblPr/>
              <a:tblGrid>
                <a:gridCol w="1465200"/>
                <a:gridCol w="804960"/>
                <a:gridCol w="502920"/>
                <a:gridCol w="666720"/>
                <a:gridCol w="514440"/>
                <a:gridCol w="585720"/>
                <a:gridCol w="657360"/>
                <a:gridCol w="658800"/>
                <a:gridCol w="585720"/>
                <a:gridCol w="658800"/>
                <a:gridCol w="731880"/>
                <a:gridCol w="952560"/>
              </a:tblGrid>
              <a:tr h="45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 та №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ЗОШ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(18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Ш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10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Гімназія №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(31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НВК №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(18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Ш №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6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Ш №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12,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КБ З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(20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3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(16,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сний склад педагогічних працівників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ошкільних навчальних закладів м. Чугує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341360"/>
          <a:ext cx="8353440" cy="4570560"/>
        </p:xfrm>
        <a:graphic>
          <a:graphicData uri="http://schemas.openxmlformats.org/drawingml/2006/table">
            <a:tbl>
              <a:tblPr/>
              <a:tblGrid>
                <a:gridCol w="1224000"/>
                <a:gridCol w="720720"/>
                <a:gridCol w="647640"/>
                <a:gridCol w="432000"/>
                <a:gridCol w="576360"/>
                <a:gridCol w="677880"/>
                <a:gridCol w="620640"/>
                <a:gridCol w="620640"/>
                <a:gridCol w="552240"/>
                <a:gridCol w="621000"/>
                <a:gridCol w="690480"/>
                <a:gridCol w="969840"/>
              </a:tblGrid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та № 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14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17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З №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14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(11,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сний склад педагогічних працівників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зашкільних навчальних закладів м. Чугує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628640"/>
          <a:ext cx="8207280" cy="3430440"/>
        </p:xfrm>
        <a:graphic>
          <a:graphicData uri="http://schemas.openxmlformats.org/drawingml/2006/table">
            <a:tbl>
              <a:tblPr/>
              <a:tblGrid>
                <a:gridCol w="1224000"/>
                <a:gridCol w="687240"/>
                <a:gridCol w="635040"/>
                <a:gridCol w="425520"/>
                <a:gridCol w="565200"/>
                <a:gridCol w="666720"/>
                <a:gridCol w="609480"/>
                <a:gridCol w="609480"/>
                <a:gridCol w="543240"/>
                <a:gridCol w="609480"/>
                <a:gridCol w="679320"/>
                <a:gridCol w="952560"/>
              </a:tblGrid>
              <a:tr h="51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та № 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(13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Т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С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13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9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Склад коміс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ган, що здійснює атестацію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ворює атестаційну комісію 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сла своїх працівникі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ацівників навчальних закладі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крім навчального закладу, щ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ується), установ освіт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приємств, організацій 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едставників громадськост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профспілок, освітніх громадсь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ганізацій тощо) (за згодою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сельністю не більше 15 осі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2920" y="1052640"/>
            <a:ext cx="4172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ган, що здійснює інспектува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ворює комісі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олова комісії – праців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ного органу управлі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віто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лени комісії – представ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ганів управління освітою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приємств, установ, організаці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ромадськості, які маю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ну осві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ленів комісії залежи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 форми, напрямів прогр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едення перевір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Проведення державного нагляду (контро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йна комісія здійсню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йну експертиз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вчального закладу згідно 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итеріями атестаційно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кспертизи навчальних закладі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твердженими Міністерст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віти і на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тестаційна комісія пр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еденні атестаційно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кспертизи навчального закла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ерується цим Порядком 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бочою програмою, щ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ладається нею і затверджуєть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ерівником відповідного орган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ним орга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правління освіто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дається наказ (назва НЗ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його місцезнаходженн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а, напрями та стро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едення перевірки, скла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місії), складається програ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ведення перевірки, 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ається перелік питань 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кументів, що буду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ряти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відомлення про перевір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дсилається (вручається) за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0 днів до початку заходу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a00"/>
                </a:solidFill>
                <a:latin typeface="Times New Roman"/>
              </a:rPr>
              <a:t>Терміни проведення державного нагляду (контро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Державна атес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ермін атестаційної експертизи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оже перевищувати 15 робоч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нів, із врахуванням термін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боти атестаційної комісі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езпосередньо у навчальном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кладі, що своєю чергою, не мож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ищувати 5 робочих дн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Інспектув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рок проведення планово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рки не мож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ищувати 15 робочих дні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запланової – 10 робочих дн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довження строку провед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запланової перевірки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пускає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User</cp:lastModifiedBy>
  <dcterms:modified xsi:type="dcterms:W3CDTF">2015-10-31T18:46:32Z</dcterms:modified>
  <cp:revision>51</cp:revision>
  <dc:subject/>
  <dc:title>Название презентации</dc:title>
</cp:coreProperties>
</file>