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60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1.jpeg" ContentType="image/jpeg"/>
  <Override PartName="/ppt/media/image21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6.jpeg" ContentType="image/jpeg"/>
  <Override PartName="/ppt/media/image22.png" ContentType="image/png"/>
  <Override PartName="/ppt/media/image24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F81A-0A73-475A-B486-16FA6EBB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1C3-73AE-4604-9A94-4C788EA7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BC6F-AC3D-49C1-A537-81231DEB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536-5045-4066-8AF0-A6305BA8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802B-C11D-493F-8B91-FB269847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9E51-9713-4E06-A487-40D2388D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467F-8896-47E9-8AC9-7B6E9311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4EB8-4F39-41CA-B154-D57BC11F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F8FA-47A4-4F90-90F9-F9B0138C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074A-338E-4143-9E97-82650CC1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2BB8-3938-4191-AFAE-CB566666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BBC5-E826-422D-81EB-2AAB99D8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5354-C494-4500-B09A-80D80A23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F113-4CE7-4DE6-892F-EEFE3A4B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DFA5-8ED2-4C85-9DFF-618BE77E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8180-D9AE-4AD8-B131-B0FD08CA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0AF0-6E72-4D0F-A0B4-C336F25F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CEE-C052-4E6B-BB76-D17F989F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758-234D-4906-92B8-202BF03E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BEF6-FC4E-4475-951F-EFCAA18A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5B63-D754-481F-8BB1-0BE4BDB1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0D5-5028-4FF9-BD0A-1CA7015A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423-3B8F-4894-95EA-FB7D58F4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871-5933-4845-A193-A0B536A7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78DF-980B-4CD7-AF34-3FF818A8DED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9BF5-1B8C-4D35-96BB-8975543ADC9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33f3b"/>
                </a:solidFill>
                <a:latin typeface="Verdana"/>
              </a:rPr>
              <a:t>Військово-патріотичне виховання як складова систем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33f3b"/>
                </a:solidFill>
                <a:latin typeface="Verdana"/>
              </a:rPr>
              <a:t>національного вихованн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Майський Г.Ю.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головний спеціаліст відділ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професійної освіти управлінн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освіти і науки Департаменту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науки і освіти Харківської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uk-UA" sz="2000" spc="-1" strike="noStrike">
                <a:solidFill>
                  <a:srgbClr val="ffffff"/>
                </a:solidFill>
                <a:latin typeface="Verdana"/>
              </a:rPr>
              <a:t>обласної державної адміністрації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Концепція національно-</a:t>
            </a:r>
            <a:br>
              <a:rPr sz="3600"/>
            </a:b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патріотичного вихованн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cc0000"/>
                </a:solidFill>
                <a:latin typeface="Verdana"/>
              </a:rPr>
              <a:t>        </a:t>
            </a:r>
            <a:r>
              <a:rPr b="1" lang="uk-UA" sz="2500" spc="-1" strike="noStrike">
                <a:solidFill>
                  <a:srgbClr val="cc0000"/>
                </a:solidFill>
                <a:latin typeface="Verdana"/>
              </a:rPr>
              <a:t>Національно-патріотичне виховання</a:t>
            </a:r>
            <a:r>
              <a:rPr b="0" lang="uk-UA" sz="2500" spc="-1" strike="noStrike">
                <a:solidFill>
                  <a:srgbClr val="ffffff"/>
                </a:solidFill>
                <a:latin typeface="Verdana"/>
              </a:rPr>
              <a:t> дітей та молоді – це комплексна системна і цілеспрямована діяльність органів державної влади, громадських організацій, сім’ї, освітніх закладів, інших соціальних інститутів щодо формування у молодого покоління високої патріотичної свідомості, почуття вірності, любові до Батьківщини, турботи про благо свого народу, готовності до виконання громадянського і конституційного обов’язку із захисту національних інтересів, цілісності, незалежності України, сприяння становленню її як правової, демократичної, соціальної держави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0066"/>
                </a:solidFill>
                <a:latin typeface="Arial"/>
              </a:rPr>
              <a:t>Концепція національно-</a:t>
            </a:r>
            <a:br>
              <a:rPr sz="3000"/>
            </a:br>
            <a:r>
              <a:rPr b="0" lang="uk-UA" sz="3000" spc="-1" strike="noStrike">
                <a:solidFill>
                  <a:srgbClr val="ff0066"/>
                </a:solidFill>
                <a:latin typeface="Arial"/>
              </a:rPr>
              <a:t>патріотичного виховання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ffff00"/>
                </a:solidFill>
                <a:latin typeface="Verdana"/>
              </a:rPr>
              <a:t>Етапи впровадження національно-патріотичного вихованн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uk-UA" sz="1800" spc="-1" strike="noStrike">
                <a:solidFill>
                  <a:srgbClr val="ff0000"/>
                </a:solidFill>
                <a:latin typeface="Verdana"/>
              </a:rPr>
              <a:t>2015 рік -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 створення нормативно-правового підґрунтя та інформаційно-методичного забезпечення для здійснення національно-патріотичного виховання. Створення Центру патріотичного виховання, що функціонуватиме у підпорядкуванні МОН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uk-UA" sz="1800" spc="-1" strike="noStrike">
                <a:solidFill>
                  <a:srgbClr val="ff0000"/>
                </a:solidFill>
                <a:latin typeface="Verdana"/>
              </a:rPr>
              <a:t>2016-2017 pp.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 - розроблення програм, навчально-методичних посібників з предметів гуманітарно-соціального спрямування для дошкільних, загальноосвітніх, позашкільних та вищих освітніх закладів, спрямованих на патріотичне виховання дітей та молоді; підготовка та видання науково-методичних посібників і методичних рекомендацій з організації виховних заходів, роботи клубів, центрів патріотичного вихованн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          </a:t>
            </a:r>
            <a:r>
              <a:rPr b="1" lang="uk-UA" sz="1800" spc="-1" strike="noStrike">
                <a:solidFill>
                  <a:srgbClr val="ff0000"/>
                </a:solidFill>
                <a:latin typeface="Verdana"/>
              </a:rPr>
              <a:t>2018-2019 рр.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 - проведення моніторингу систем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патріотичного виховання дітей та молоді за допомогою соціологічних опитувань, анкетування, психологічного тестування; проведення науково-методичних конференцій, створення банку педагогічного досвіду тощо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Концепція національно-</a:t>
            </a:r>
            <a:br>
              <a:rPr sz="3600"/>
            </a:b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патріотичного вихованн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ffff00"/>
                </a:solidFill>
                <a:latin typeface="Verdana"/>
              </a:rPr>
              <a:t>Очікувані результати: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uk-UA" sz="2100" spc="-1" strike="noStrike">
                <a:solidFill>
                  <a:srgbClr val="ffffff"/>
                </a:solidFill>
                <a:latin typeface="Verdana"/>
              </a:rPr>
              <a:t>- забезпечення у молодого покоління  розвинутої патріотичної свідомості і відповідальності, почуття вірності, любові до Батьківщини, турботи про спільне благо, збереження та шанування національної пам’яті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uk-UA" sz="2100" spc="-1" strike="noStrike">
                <a:solidFill>
                  <a:srgbClr val="ffffff"/>
                </a:solidFill>
                <a:latin typeface="Verdana"/>
              </a:rPr>
              <a:t>- зацікавленість молоді щодо служби у Збройних силах України, готовність до захисту України та виконання громадянського і конституційного обов’язку із захисту національних інтересів та незалежності України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uk-UA" sz="2100" spc="-1" strike="noStrike">
                <a:solidFill>
                  <a:srgbClr val="ffffff"/>
                </a:solidFill>
                <a:latin typeface="Verdana"/>
              </a:rPr>
              <a:t>- збереження стабільності в суспільстві, соціальному та економічному розвитку країни, зміцнення її обороноздатності та безпеки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Verdana"/>
              </a:rPr>
              <a:t>Програма військово-патріотичного виховання молоді та участі населення у заходах оборонної роботи на 2015-2017 роки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Verdana"/>
              </a:rPr>
              <a:t>(прийнята 15.01.2015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Verdana"/>
              </a:rPr>
              <a:t>на засіданні ХХХІІІ сесії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Verdana"/>
              </a:rPr>
              <a:t>Харківської обласної рад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Мета Програм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1052640"/>
            <a:ext cx="432108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99"/>
                </a:solidFill>
                <a:latin typeface="Verdana"/>
              </a:rPr>
              <a:t>Удосконаленн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99"/>
                </a:solidFill>
                <a:latin typeface="Verdana"/>
              </a:rPr>
              <a:t>допризовної підготов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99"/>
                </a:solidFill>
                <a:latin typeface="Verdana"/>
              </a:rPr>
              <a:t>і військово-патріотич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99"/>
                </a:solidFill>
                <a:latin typeface="Verdana"/>
              </a:rPr>
              <a:t>вихован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1700280"/>
            <a:ext cx="432108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99"/>
                </a:solidFill>
                <a:latin typeface="Verdana"/>
              </a:rPr>
              <a:t>Навчання, розвиток 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99"/>
                </a:solidFill>
                <a:latin typeface="Verdana"/>
              </a:rPr>
              <a:t>психологічна підготовка молод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99"/>
                </a:solidFill>
                <a:latin typeface="Verdana"/>
              </a:rPr>
              <a:t>до захисту Вітч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2637000"/>
            <a:ext cx="432108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99"/>
                </a:solidFill>
                <a:latin typeface="Verdana"/>
              </a:rPr>
              <a:t>Формуванн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99"/>
                </a:solidFill>
                <a:latin typeface="Verdana"/>
              </a:rPr>
              <a:t>патріотичної свідомост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99"/>
                </a:solidFill>
                <a:latin typeface="Verdana"/>
              </a:rPr>
              <a:t>і національної гідност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3284640"/>
            <a:ext cx="432108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99"/>
                </a:solidFill>
                <a:latin typeface="Verdana"/>
              </a:rPr>
              <a:t>Виховання молод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99"/>
                </a:solidFill>
                <a:latin typeface="Verdana"/>
              </a:rPr>
              <a:t>на патріотични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99"/>
                </a:solidFill>
                <a:latin typeface="Verdana"/>
              </a:rPr>
              <a:t>історичних та бойов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99"/>
                </a:solidFill>
                <a:latin typeface="Verdana"/>
              </a:rPr>
              <a:t> </a:t>
            </a:r>
            <a:r>
              <a:rPr b="0" lang="uk-UA" sz="1800" spc="-1" strike="noStrike">
                <a:solidFill>
                  <a:srgbClr val="990099"/>
                </a:solidFill>
                <a:latin typeface="Verdana"/>
              </a:rPr>
              <a:t>традиціях нар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5013360"/>
            <a:ext cx="432108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99"/>
                </a:solidFill>
                <a:latin typeface="Verdana"/>
              </a:rPr>
              <a:t>Створення системи взаємодії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99"/>
                </a:solidFill>
                <a:latin typeface="Verdana"/>
              </a:rPr>
              <a:t>з ветеранськими та громадськи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99"/>
                </a:solidFill>
                <a:latin typeface="Verdana"/>
              </a:rPr>
              <a:t>організаці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4365720"/>
            <a:ext cx="432108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99"/>
                </a:solidFill>
                <a:latin typeface="Verdana"/>
              </a:rPr>
              <a:t>Удосконаленн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99"/>
                </a:solidFill>
                <a:latin typeface="Verdana"/>
              </a:rPr>
              <a:t>форм і методів навчан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99"/>
                </a:solidFill>
                <a:latin typeface="Verdana"/>
              </a:rPr>
              <a:t>основам військової спра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Виконавці заходів, передбачених програмою</a:t>
            </a:r>
            <a:br>
              <a:rPr sz="2400"/>
            </a:b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 (структурні підрозділи ХОДА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5075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uk-UA" sz="2400" spc="-1" strike="noStrike">
                <a:solidFill>
                  <a:srgbClr val="ffff00"/>
                </a:solidFill>
                <a:latin typeface="Verdana"/>
              </a:rPr>
              <a:t> Департаменти обласної державної адміністрації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науки і освіт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оборонної, мобілізаційної роботи та взаємодії з правоохоронними органам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у справах молоді та спорту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охорони здоров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масових комунікацій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культури і туризму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містобудування та архітектур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цивільного захист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uk-UA" sz="24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uk-UA" sz="2400" spc="-1" strike="noStrike">
                <a:solidFill>
                  <a:srgbClr val="ffff00"/>
                </a:solidFill>
                <a:latin typeface="Verdana"/>
              </a:rPr>
              <a:t> Відділ у справах релігі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Виконавці заходів, передбачених програмою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Verdana"/>
              </a:rPr>
              <a:t>3. Навчальні заклад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КВНЗ “Харківська академія неперервної освіти”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cc66"/>
                </a:solidFill>
                <a:latin typeface="Verdana"/>
              </a:rPr>
              <a:t>- КЗ “Харківська обласна станція юних туристів”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Харківський університет Повітряних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Сил імені Івана Кожедуб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cc66"/>
                </a:solidFill>
                <a:latin typeface="Verdana"/>
              </a:rPr>
              <a:t>- Факультет військової підготовки НТУ “ХПІ”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Національна академія Національної гвардії Україн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cc66"/>
                </a:solidFill>
                <a:latin typeface="Verdana"/>
              </a:rPr>
              <a:t>Національний університет цивільног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cc66"/>
                </a:solidFill>
                <a:latin typeface="Verdana"/>
              </a:rPr>
              <a:t>захисту Україн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Харківський національний університ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внутрішніх справ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cc66"/>
                </a:solidFill>
                <a:latin typeface="Verdana"/>
              </a:rPr>
              <a:t>Харківське обласне вище училищ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ffcc66"/>
                </a:solidFill>
                <a:latin typeface="Verdana"/>
              </a:rPr>
              <a:t>фізичної культури і спорту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Державна гімназія-інтернат “Кадетський корпус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Виконавці заходів, передбачених програмою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uk-UA" sz="20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Районі державні адміністрації та міськвиконком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міст обласного значенн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uk-UA" sz="20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Центральні районні лікарні та центр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первинної медико-санітарної допомог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uk-UA" sz="20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Харківський обласний військовий комісаріат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військова прокуратур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uk-UA" sz="2000" spc="-1" strike="noStrike">
                <a:solidFill>
                  <a:srgbClr val="ffff00"/>
                </a:solidFill>
                <a:latin typeface="Verdana"/>
              </a:rPr>
              <a:t>7.</a:t>
            </a: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Військові частини, що дислокуютьс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на території області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uk-UA" sz="2000" spc="-1" strike="noStrike">
                <a:solidFill>
                  <a:srgbClr val="ffff00"/>
                </a:solidFill>
                <a:latin typeface="Verdana"/>
              </a:rPr>
              <a:t>8.</a:t>
            </a: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Всеукраїнська федерація військово-спортивних багатоборств та Харківська обласна федерація парашутного спорт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uk-UA" sz="2000" spc="-1" strike="noStrike">
                <a:solidFill>
                  <a:srgbClr val="ffff00"/>
                </a:solidFill>
                <a:latin typeface="Verdana"/>
              </a:rPr>
              <a:t>9.</a:t>
            </a: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ЗМІ у т.ч. Харківська обласн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державна телерадіокомпані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uk-UA" sz="2000" spc="-1" strike="noStrike">
                <a:solidFill>
                  <a:srgbClr val="ffff00"/>
                </a:solidFill>
                <a:latin typeface="Verdana"/>
              </a:rPr>
              <a:t>10.</a:t>
            </a: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Харківська обласна спілка ветеранів Афганістан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uk-UA" sz="2000" spc="-1" strike="noStrike">
                <a:solidFill>
                  <a:srgbClr val="ffff00"/>
                </a:solidFill>
                <a:latin typeface="Verdana"/>
              </a:rPr>
              <a:t>11.</a:t>
            </a: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КУ “Харківський обласний центр молоді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Реалізація Програм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uk-UA" sz="2000" spc="-1" strike="noStrike">
                <a:solidFill>
                  <a:srgbClr val="ffff00"/>
                </a:solidFill>
                <a:latin typeface="Verdana"/>
              </a:rPr>
              <a:t>Передбачається виділити 1 млн. 492 тис. грн.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uk-UA" sz="1800" spc="-1" strike="noStrike">
                <a:solidFill>
                  <a:srgbClr val="ff0000"/>
                </a:solidFill>
                <a:latin typeface="Verdana"/>
              </a:rPr>
              <a:t>- придбання обладнання для аудиторій і класів кафедри військової підготовки Харківського національного університету внутрішніх справ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uk-UA" sz="1800" spc="-1" strike="noStrike">
                <a:solidFill>
                  <a:srgbClr val="ffcc66"/>
                </a:solidFill>
                <a:latin typeface="Verdana"/>
              </a:rPr>
              <a:t>- проведення навчально-польових зборів для навчання учнів та студентів навичкам стрільб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uk-UA" sz="1800" spc="-1" strike="noStrike">
                <a:solidFill>
                  <a:srgbClr val="ff0000"/>
                </a:solidFill>
                <a:latin typeface="Verdana"/>
              </a:rPr>
              <a:t>- організація і проведення у ЗНЗ спільних з військовими ВНЗ виїзних практичних занять в рамках предмету «Захист Вітчизни»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uk-UA" sz="1800" spc="-1" strike="noStrike">
                <a:solidFill>
                  <a:srgbClr val="ffcc66"/>
                </a:solidFill>
                <a:latin typeface="Verdana"/>
              </a:rPr>
              <a:t>- проведення обласних змагань з військово-прикладних видів спорту на базі гімназії-інтернату «Кадетський корпус»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uk-UA" sz="1800" spc="-1" strike="noStrike">
                <a:solidFill>
                  <a:srgbClr val="ff0000"/>
                </a:solidFill>
                <a:latin typeface="Verdana"/>
              </a:rPr>
              <a:t>- проведення щорічного конкурсу «Патріоти рідної землі» серед ЗМІ;</a:t>
            </a: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uk-UA" sz="1800" spc="-1" strike="noStrike">
                <a:solidFill>
                  <a:srgbClr val="ffcc66"/>
                </a:solidFill>
                <a:latin typeface="Verdana"/>
              </a:rPr>
              <a:t>-  організація і проведення обласного етапу дитячо-юнацької військово-патріотичної гри «Сокіл»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uk-UA" sz="1800" spc="-1" strike="noStrike">
                <a:solidFill>
                  <a:srgbClr val="ff0000"/>
                </a:solidFill>
                <a:latin typeface="Verdana"/>
              </a:rPr>
              <a:t>- популяризація служби в українській армії, організація та проведення практичних конференцій і семінарів з питань військово-патріотичного виховання та інші заход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Витяг із рішення координаційної наради ХОДА від 12.03.2015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uk-UA" sz="20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Департаменту науки і освіти ХОДА та місцевим органам управління освітою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uk-UA" sz="2000" spc="-1" strike="noStrike">
                <a:solidFill>
                  <a:srgbClr val="ffff00"/>
                </a:solidFill>
                <a:latin typeface="Verdana"/>
              </a:rPr>
              <a:t>6.1.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Надати методичну допомогу ЗНЗ, ПТНЗ, ВНЗ І-ІІ     р. акр. з покращення якості викладання предмету “Захист Вітчизни” та військово-патріотичного вихованн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uk-UA" sz="2000" spc="-1" strike="noStrike">
                <a:solidFill>
                  <a:srgbClr val="ffff00"/>
                </a:solidFill>
                <a:latin typeface="Verdana"/>
              </a:rPr>
              <a:t>6.2.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Організувати проведення практичних занять з предмету “Захист Вітчизни” на базі військових ВНЗ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uk-UA" sz="2000" spc="-1" strike="noStrike">
                <a:solidFill>
                  <a:srgbClr val="ffff00"/>
                </a:solidFill>
                <a:latin typeface="Verdana"/>
              </a:rPr>
              <a:t>6.3.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Ініціювати присвоєння навчальним закладам імен Героїв України, випускників цих навчальних закладі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uk-UA" sz="2000" spc="-1" strike="noStrike">
                <a:solidFill>
                  <a:srgbClr val="ffff00"/>
                </a:solidFill>
                <a:latin typeface="Verdana"/>
              </a:rPr>
              <a:t>7.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Департаменту науки і освіти ХОДА спільно з КВНЗ “Харківська академія неперервної освіти” розробити програму роботи шкільних гуртків військово-патріотичного напрям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uk-UA" sz="3200" spc="-1" strike="noStrike">
                <a:solidFill>
                  <a:srgbClr val="ff0000"/>
                </a:solidFill>
                <a:latin typeface="Verdana"/>
              </a:rPr>
              <a:t>Указ Президента України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25.10.2002 № 948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«Про Концепцію допризовної підготовки і військово-патріотичного виховання молоді» (із змінам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Робота з військово-патріотичного вихованн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Навчальні збори з військово-патріотичного виховання за темою: </a:t>
            </a:r>
            <a:r>
              <a:rPr b="0" i="1" lang="uk-UA" sz="1800" spc="-1" strike="noStrike" u="sng">
                <a:solidFill>
                  <a:srgbClr val="ffffff"/>
                </a:solidFill>
                <a:uFillTx/>
                <a:latin typeface="Verdana"/>
              </a:rPr>
              <a:t>«Я – майбутній захисник України»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 на базі військового факультету </a:t>
            </a:r>
            <a:r>
              <a:rPr b="0" lang="uk-UA" sz="1800" spc="-1" strike="noStrike">
                <a:solidFill>
                  <a:srgbClr val="ff0000"/>
                </a:solidFill>
                <a:latin typeface="Verdana"/>
              </a:rPr>
              <a:t>Національного технічного університету «Харківський політехнічний інститут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Учасники – учні 11-х класів </a:t>
            </a:r>
            <a:r>
              <a:rPr b="0" lang="uk-UA" sz="1800" spc="-1" strike="noStrike">
                <a:solidFill>
                  <a:srgbClr val="ffff00"/>
                </a:solidFill>
                <a:latin typeface="Verdana"/>
              </a:rPr>
              <a:t>Харківської спеціалізованої школи-інтернату «Ліцей міліції» та КЗ «Обласна спеціалізована школа-інтернат IІ-ІІІ ступенів «Обдарованість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214344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48000" y="371628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867280" y="407664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66"/>
                </a:solidFill>
                <a:latin typeface="Arial"/>
              </a:rPr>
              <a:t>Вшанування учасників </a:t>
            </a:r>
            <a:br>
              <a:rPr sz="4000"/>
            </a:br>
            <a:r>
              <a:rPr b="0" lang="uk-UA" sz="4000" spc="-1" strike="noStrike">
                <a:solidFill>
                  <a:srgbClr val="ff0066"/>
                </a:solidFill>
                <a:latin typeface="Arial"/>
              </a:rPr>
              <a:t>бойових ді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Відвідування вихованцями виставки «Мій біль – Афганістан»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ffff00"/>
                </a:solidFill>
                <a:latin typeface="Verdana"/>
              </a:rPr>
              <a:t>Харківському центрі дослідницько-експериментальної діяльності «Будинок учителя»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cc0000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" descr="DSCN6767"/>
          <p:cNvPicPr/>
          <p:nvPr/>
        </p:nvPicPr>
        <p:blipFill>
          <a:blip r:embed="rId1"/>
          <a:stretch/>
        </p:blipFill>
        <p:spPr>
          <a:xfrm>
            <a:off x="611280" y="46530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IMG_0261"/>
          <p:cNvPicPr/>
          <p:nvPr/>
        </p:nvPicPr>
        <p:blipFill>
          <a:blip r:embed="rId2"/>
          <a:stretch/>
        </p:blipFill>
        <p:spPr>
          <a:xfrm>
            <a:off x="7164360" y="4724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IMG_0276"/>
          <p:cNvPicPr/>
          <p:nvPr/>
        </p:nvPicPr>
        <p:blipFill>
          <a:blip r:embed="rId3"/>
          <a:stretch/>
        </p:blipFill>
        <p:spPr>
          <a:xfrm>
            <a:off x="3995640" y="4653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3851280" y="2708280"/>
            <a:ext cx="1679400" cy="1260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6300720" y="2708280"/>
            <a:ext cx="1919520" cy="12747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1116000" y="2708280"/>
            <a:ext cx="1865160" cy="1236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/Files/images/nov/ВЫСТАВКА 3.JPG"/>
          <p:cNvPicPr/>
          <p:nvPr/>
        </p:nvPicPr>
        <p:blipFill>
          <a:blip r:embed="rId7"/>
          <a:stretch/>
        </p:blipFill>
        <p:spPr>
          <a:xfrm>
            <a:off x="2050920" y="4005360"/>
            <a:ext cx="1919520" cy="14367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/Files/images/nov/ВЫСТАВКА 1.JPG"/>
          <p:cNvPicPr/>
          <p:nvPr/>
        </p:nvPicPr>
        <p:blipFill>
          <a:blip r:embed="rId8"/>
          <a:stretch/>
        </p:blipFill>
        <p:spPr>
          <a:xfrm>
            <a:off x="5435640" y="4005360"/>
            <a:ext cx="170496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66"/>
                </a:solidFill>
                <a:latin typeface="Arial"/>
              </a:rPr>
              <a:t>Вшанування учасників </a:t>
            </a:r>
            <a:br>
              <a:rPr sz="4000"/>
            </a:br>
            <a:r>
              <a:rPr b="0" lang="uk-UA" sz="4000" spc="-1" strike="noStrike">
                <a:solidFill>
                  <a:srgbClr val="ff0066"/>
                </a:solidFill>
                <a:latin typeface="Arial"/>
              </a:rPr>
              <a:t>бойових ді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3628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Загальношкільна тематич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лінійка «Спасибі вам за мужні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і відвагу» </a:t>
            </a: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(КЗ «Харківськ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загальноосвітня санаторн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школа-інтернат I – III ступенів № 9»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Зустріч з ветераном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афганської війни</a:t>
            </a: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(КЗ «Харківськи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спеціальний НВК № 7»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" descr="/Files/images/МУЖ 1.JPG"/>
          <p:cNvPicPr/>
          <p:nvPr/>
        </p:nvPicPr>
        <p:blipFill>
          <a:blip r:embed="rId1"/>
          <a:stretch/>
        </p:blipFill>
        <p:spPr>
          <a:xfrm>
            <a:off x="6443640" y="3068640"/>
            <a:ext cx="1994040" cy="13557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/Files/images/МУЖ 2.JPG"/>
          <p:cNvPicPr/>
          <p:nvPr/>
        </p:nvPicPr>
        <p:blipFill>
          <a:blip r:embed="rId2"/>
          <a:stretch/>
        </p:blipFill>
        <p:spPr>
          <a:xfrm>
            <a:off x="5364000" y="1413000"/>
            <a:ext cx="2133720" cy="15969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20141113_103134"/>
          <p:cNvPicPr/>
          <p:nvPr/>
        </p:nvPicPr>
        <p:blipFill>
          <a:blip r:embed="rId3"/>
          <a:stretch/>
        </p:blipFill>
        <p:spPr>
          <a:xfrm>
            <a:off x="3924360" y="3860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20141113_095722"/>
          <p:cNvPicPr/>
          <p:nvPr/>
        </p:nvPicPr>
        <p:blipFill>
          <a:blip r:embed="rId4"/>
          <a:stretch/>
        </p:blipFill>
        <p:spPr>
          <a:xfrm>
            <a:off x="5435640" y="450864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66"/>
                </a:solidFill>
                <a:latin typeface="Arial"/>
              </a:rPr>
              <a:t>Вшанування учасників </a:t>
            </a:r>
            <a:br>
              <a:rPr sz="4000"/>
            </a:br>
            <a:r>
              <a:rPr b="0" lang="uk-UA" sz="4000" spc="-1" strike="noStrike">
                <a:solidFill>
                  <a:srgbClr val="ff0066"/>
                </a:solidFill>
                <a:latin typeface="Arial"/>
              </a:rPr>
              <a:t>бойових ді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Урок мужності «Ви завжди залишаєтесь солдатами»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(КЗ «Харківська загальноосвітня санатор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школа-інтернат I–II ступенів № 11»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Вечір пам’яті </a:t>
            </a: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Відлуння Афганських гір</a:t>
            </a: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»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КЗ «Нововодолазький санаторний НВК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" descr="01 Під час уроку мужності"/>
          <p:cNvPicPr/>
          <p:nvPr/>
        </p:nvPicPr>
        <p:blipFill>
          <a:blip r:embed="rId1"/>
          <a:stretch/>
        </p:blipFill>
        <p:spPr>
          <a:xfrm>
            <a:off x="2050920" y="263700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04 Під час уроку мужності"/>
          <p:cNvPicPr/>
          <p:nvPr/>
        </p:nvPicPr>
        <p:blipFill>
          <a:blip r:embed="rId2"/>
          <a:stretch/>
        </p:blipFill>
        <p:spPr>
          <a:xfrm>
            <a:off x="3708360" y="263700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02 Під час уроку мужності"/>
          <p:cNvPicPr/>
          <p:nvPr/>
        </p:nvPicPr>
        <p:blipFill>
          <a:blip r:embed="rId3"/>
          <a:stretch/>
        </p:blipFill>
        <p:spPr>
          <a:xfrm>
            <a:off x="7020000" y="263700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06 Під час уроку мужності"/>
          <p:cNvPicPr/>
          <p:nvPr/>
        </p:nvPicPr>
        <p:blipFill>
          <a:blip r:embed="rId4"/>
          <a:stretch/>
        </p:blipFill>
        <p:spPr>
          <a:xfrm>
            <a:off x="468360" y="263700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03 Під час уроку мужності"/>
          <p:cNvPicPr/>
          <p:nvPr/>
        </p:nvPicPr>
        <p:blipFill>
          <a:blip r:embed="rId5"/>
          <a:stretch/>
        </p:blipFill>
        <p:spPr>
          <a:xfrm>
            <a:off x="5292720" y="263700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saaw"/>
          <p:cNvPicPr/>
          <p:nvPr/>
        </p:nvPicPr>
        <p:blipFill>
          <a:blip r:embed="rId6"/>
          <a:stretch/>
        </p:blipFill>
        <p:spPr>
          <a:xfrm>
            <a:off x="2556000" y="4797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wgggg"/>
          <p:cNvPicPr/>
          <p:nvPr/>
        </p:nvPicPr>
        <p:blipFill>
          <a:blip r:embed="rId7"/>
          <a:stretch/>
        </p:blipFill>
        <p:spPr>
          <a:xfrm>
            <a:off x="4643280" y="47973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66"/>
                </a:solidFill>
                <a:latin typeface="Arial"/>
              </a:rPr>
              <a:t>Вшанування учасників </a:t>
            </a:r>
            <a:br>
              <a:rPr sz="4000"/>
            </a:br>
            <a:r>
              <a:rPr b="0" lang="uk-UA" sz="4000" spc="-1" strike="noStrike">
                <a:solidFill>
                  <a:srgbClr val="ff0066"/>
                </a:solidFill>
                <a:latin typeface="Arial"/>
              </a:rPr>
              <a:t>бойових ді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Лінійка, присвячена вшануванню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учасників бойових дій на території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інших держав </a:t>
            </a: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(КЗ «Харківськи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                            </a:t>
            </a: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спеціальний НВК імені В.Г.Короленка»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День вшанування учасників бойових ді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на території інших держав</a:t>
            </a: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(Харківськ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                                           </a:t>
            </a: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спеціалізована школа-інтернат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                                           </a:t>
            </a: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«Ліцей міліції»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Verdana"/>
              </a:rPr>
              <a:t>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2087640" cy="13366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411280" y="4508640"/>
            <a:ext cx="1990800" cy="1490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755640" y="3573360"/>
            <a:ext cx="15159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66"/>
                </a:solidFill>
                <a:latin typeface="Arial"/>
              </a:rPr>
              <a:t>Вшанування учасників </a:t>
            </a:r>
            <a:br>
              <a:rPr sz="4000"/>
            </a:br>
            <a:r>
              <a:rPr b="0" lang="uk-UA" sz="4000" spc="-1" strike="noStrike">
                <a:solidFill>
                  <a:srgbClr val="ff0066"/>
                </a:solidFill>
                <a:latin typeface="Arial"/>
              </a:rPr>
              <a:t>бойових ді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Вечір пам'яті «Афганістан - мій біль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моя пекуча пам'ять»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(КЗ «Харківська спеціальна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загальноосвітн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школа-інтернат № 3»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Виховна година</a:t>
            </a:r>
            <a:r>
              <a:rPr b="0" lang="uk-UA" sz="2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«Трагеді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і подвиг Афганської війни»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00"/>
                </a:solidFill>
                <a:latin typeface="Verdana"/>
              </a:rPr>
              <a:t>(КЗ</a:t>
            </a: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«Богодухівський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спеціальний НВК»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716360" y="2276640"/>
            <a:ext cx="1762200" cy="13204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04000" y="1808280"/>
            <a:ext cx="1760400" cy="13208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7236000" y="3357720"/>
            <a:ext cx="1341360" cy="17874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4716360" y="4149720"/>
            <a:ext cx="22590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66"/>
                </a:solidFill>
                <a:latin typeface="Arial"/>
              </a:rPr>
              <a:t>Вшанування учасників </a:t>
            </a:r>
            <a:br>
              <a:rPr sz="4000"/>
            </a:br>
            <a:r>
              <a:rPr b="0" lang="uk-UA" sz="4000" spc="-1" strike="noStrike">
                <a:solidFill>
                  <a:srgbClr val="ff0066"/>
                </a:solidFill>
                <a:latin typeface="Arial"/>
              </a:rPr>
              <a:t>бойових ді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00"/>
                </a:solidFill>
                <a:latin typeface="Verdana"/>
              </a:rPr>
              <a:t>КЗ «Балаклійська спеціальна загальноосвітня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00"/>
                </a:solidFill>
                <a:latin typeface="Verdana"/>
              </a:rPr>
              <a:t>школа-інтернат I–II ступенів»</a:t>
            </a:r>
            <a:r>
              <a:rPr b="0" lang="uk-UA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Виставка малюнків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Мій біль – Афганістан»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Загальношкільна урочиста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лінійка, присвячена підбиттю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підсумків Року учасників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бойових дій на території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інших держав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 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" descr="30530687"/>
          <p:cNvPicPr/>
          <p:nvPr/>
        </p:nvPicPr>
        <p:blipFill>
          <a:blip r:embed="rId1"/>
          <a:stretch/>
        </p:blipFill>
        <p:spPr>
          <a:xfrm>
            <a:off x="5724360" y="2565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57686822"/>
          <p:cNvPicPr/>
          <p:nvPr/>
        </p:nvPicPr>
        <p:blipFill>
          <a:blip r:embed="rId2"/>
          <a:stretch/>
        </p:blipFill>
        <p:spPr>
          <a:xfrm>
            <a:off x="4067280" y="263700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74624871"/>
          <p:cNvPicPr/>
          <p:nvPr/>
        </p:nvPicPr>
        <p:blipFill>
          <a:blip r:embed="rId3"/>
          <a:stretch/>
        </p:blipFill>
        <p:spPr>
          <a:xfrm>
            <a:off x="7236000" y="22050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10187315"/>
          <p:cNvPicPr/>
          <p:nvPr/>
        </p:nvPicPr>
        <p:blipFill>
          <a:blip r:embed="rId4"/>
          <a:stretch/>
        </p:blipFill>
        <p:spPr>
          <a:xfrm>
            <a:off x="5651640" y="4076640"/>
            <a:ext cx="2641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0000"/>
                </a:solidFill>
                <a:latin typeface="Arial"/>
              </a:rPr>
              <a:t>Заходи з військово-патріотичного виховання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КЗ «Харківський санаторний НВК № 13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Урок-пам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яті, присвячен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В.С. Гризодубові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Вихованці  з учасникам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ансамблю аутентичног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звучання «Слово» відвідали військово-медичний клінічний центр Північного регіону 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6" name="" descr="WA6B9zsq4F8"/>
          <p:cNvPicPr/>
          <p:nvPr/>
        </p:nvPicPr>
        <p:blipFill>
          <a:blip r:embed="rId1"/>
          <a:stretch/>
        </p:blipFill>
        <p:spPr>
          <a:xfrm>
            <a:off x="4859280" y="2133720"/>
            <a:ext cx="2352600" cy="1765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95280" y="292428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835280" y="34290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276720" y="386064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0000"/>
                </a:solidFill>
                <a:latin typeface="Arial"/>
              </a:rPr>
              <a:t>Заходи з військово-патріотичного виховання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Свято «Пісні, що допомагали перемагати» за участю ветеранів та учасників бойових дій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(КЗ «Харківська спеціальна загальноосвітня школа-інтернат І-ІІІ ступенів № 6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Екскурсія до</a:t>
            </a:r>
            <a:r>
              <a:rPr b="0" lang="uk-UA" sz="2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Національного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меморіального комплексу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«Висота маршала І. С. Конєва»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ffff00"/>
                </a:solidFill>
                <a:latin typeface="Verdana"/>
              </a:rPr>
              <a:t>(КЗ</a:t>
            </a: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«Богодухівський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спеціальний НВК»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" descr="IMG_0331"/>
          <p:cNvPicPr/>
          <p:nvPr/>
        </p:nvPicPr>
        <p:blipFill>
          <a:blip r:embed="rId1"/>
          <a:stretch/>
        </p:blipFill>
        <p:spPr>
          <a:xfrm>
            <a:off x="684360" y="2565360"/>
            <a:ext cx="2228760" cy="15638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CIMG7362"/>
          <p:cNvPicPr/>
          <p:nvPr/>
        </p:nvPicPr>
        <p:blipFill>
          <a:blip r:embed="rId2"/>
          <a:stretch/>
        </p:blipFill>
        <p:spPr>
          <a:xfrm>
            <a:off x="3492360" y="2565360"/>
            <a:ext cx="2024280" cy="15159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IMG_0229"/>
          <p:cNvPicPr/>
          <p:nvPr/>
        </p:nvPicPr>
        <p:blipFill>
          <a:blip r:embed="rId3"/>
          <a:stretch/>
        </p:blipFill>
        <p:spPr>
          <a:xfrm>
            <a:off x="6012000" y="2565360"/>
            <a:ext cx="2222280" cy="14796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5364000" y="4221000"/>
            <a:ext cx="23814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0000"/>
                </a:solidFill>
                <a:latin typeface="Arial"/>
              </a:rPr>
              <a:t>Заходи з військово-патріотичного виховання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ерегляд та обговорення художніх фільмів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«Сучасна зброя» 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(КЗ «Харківський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спеціальний НВК № 8»)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«Іваново дитинство»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(КЗ «Харківська спеціальна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загальноосвітня школа-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      </a:t>
            </a: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інтернат № 3»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284720" y="2276640"/>
            <a:ext cx="2182680" cy="16365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516720" y="2852640"/>
            <a:ext cx="2111400" cy="1584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4500720" y="4508640"/>
            <a:ext cx="244764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24000" y="2924280"/>
            <a:ext cx="2808000" cy="1224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Узгодження ді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центральн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і місцевих органі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влад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413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Створенн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системи шефськ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зв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'</a:t>
            </a: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язкі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4437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Визначенн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ролі держав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у військо-патріотичном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вихованн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437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Формуванн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патріотичної свідомості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і національної гідност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292428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Вироблення єдин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поглядів на проблем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вихованн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громадяни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1341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Єдність навчання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виховання, розвитку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психологічної підготов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2781360"/>
            <a:ext cx="2951280" cy="158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990099"/>
                </a:solidFill>
                <a:uFillTx/>
                <a:latin typeface="Verdana"/>
              </a:rPr>
              <a:t>Мета Концепці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59280" y="5300640"/>
            <a:ext cx="2808000" cy="1224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Удосконаленн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педагогічних фор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і методів навчанн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03640" y="90792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Визнанн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основних напрямі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підготовки і вихованн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0000"/>
                </a:solidFill>
                <a:latin typeface="Arial"/>
              </a:rPr>
              <a:t>Заходи з військово-патріотичного виховання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00"/>
                </a:solidFill>
                <a:latin typeface="Verdana"/>
              </a:rPr>
              <a:t>КЗ «Обласна спеціалізована школа-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00"/>
                </a:solidFill>
                <a:latin typeface="Verdana"/>
              </a:rPr>
              <a:t>інтернат IІ-ІІІ ступенів «Обдарованість»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Святкування Дн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Збройних Сил Україн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Практичні заняття з військової підготовки на баз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арківського університету Повітряних Сил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імені Івана Кожедуба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003640" y="2565360"/>
            <a:ext cx="1905120" cy="12668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684360" y="4581360"/>
            <a:ext cx="1474560" cy="11592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2195640" y="5373720"/>
            <a:ext cx="1544400" cy="10731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3780000" y="5373720"/>
            <a:ext cx="1760400" cy="11095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5580000" y="5373720"/>
            <a:ext cx="1527120" cy="11523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7164360" y="4581360"/>
            <a:ext cx="1548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0000"/>
                </a:solidFill>
                <a:latin typeface="Arial"/>
              </a:rPr>
              <a:t>Заходи з військово-патріотичного виховання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Відвідування Знам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янського музею учням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ffff00"/>
                </a:solidFill>
                <a:latin typeface="Verdana"/>
              </a:rPr>
              <a:t>КЗ «Нововодолазький санаторний НВК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" descr="Mn1762onbp8"/>
          <p:cNvPicPr/>
          <p:nvPr/>
        </p:nvPicPr>
        <p:blipFill>
          <a:blip r:embed="rId1"/>
          <a:stretch/>
        </p:blipFill>
        <p:spPr>
          <a:xfrm>
            <a:off x="1116000" y="2565360"/>
            <a:ext cx="2568600" cy="19274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Q7R01_iezp0"/>
          <p:cNvPicPr/>
          <p:nvPr/>
        </p:nvPicPr>
        <p:blipFill>
          <a:blip r:embed="rId2"/>
          <a:stretch/>
        </p:blipFill>
        <p:spPr>
          <a:xfrm>
            <a:off x="5076720" y="2565360"/>
            <a:ext cx="2498760" cy="18748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ta6NI0kNKnA"/>
          <p:cNvPicPr/>
          <p:nvPr/>
        </p:nvPicPr>
        <p:blipFill>
          <a:blip r:embed="rId3"/>
          <a:stretch/>
        </p:blipFill>
        <p:spPr>
          <a:xfrm>
            <a:off x="5651640" y="4581360"/>
            <a:ext cx="2714400" cy="18100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aVIde5TXlAw"/>
          <p:cNvPicPr/>
          <p:nvPr/>
        </p:nvPicPr>
        <p:blipFill>
          <a:blip r:embed="rId4"/>
          <a:stretch/>
        </p:blipFill>
        <p:spPr>
          <a:xfrm>
            <a:off x="1908000" y="4581360"/>
            <a:ext cx="27370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0000"/>
                </a:solidFill>
                <a:latin typeface="Arial"/>
              </a:rPr>
              <a:t>Заходи з військово-патріотичного виховання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Відзначення Дня Українського козацтв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Verdana"/>
              </a:rPr>
              <a:t>(КЗ «Куп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ffff00"/>
                </a:solidFill>
                <a:latin typeface="Verdana"/>
              </a:rPr>
              <a:t>янський спеціальний НВК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»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7" name="" descr="Small_DSCF7974"/>
          <p:cNvPicPr/>
          <p:nvPr/>
        </p:nvPicPr>
        <p:blipFill>
          <a:blip r:embed="rId1"/>
          <a:stretch/>
        </p:blipFill>
        <p:spPr>
          <a:xfrm>
            <a:off x="468360" y="43657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Small_DSCF7999"/>
          <p:cNvPicPr/>
          <p:nvPr/>
        </p:nvPicPr>
        <p:blipFill>
          <a:blip r:embed="rId2"/>
          <a:stretch/>
        </p:blipFill>
        <p:spPr>
          <a:xfrm>
            <a:off x="1979640" y="292428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Small_№ 2  DSCF7881"/>
          <p:cNvPicPr/>
          <p:nvPr/>
        </p:nvPicPr>
        <p:blipFill>
          <a:blip r:embed="rId3"/>
          <a:stretch/>
        </p:blipFill>
        <p:spPr>
          <a:xfrm>
            <a:off x="3564000" y="43657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Small_№ 3  DSCF7896"/>
          <p:cNvPicPr/>
          <p:nvPr/>
        </p:nvPicPr>
        <p:blipFill>
          <a:blip r:embed="rId4"/>
          <a:stretch/>
        </p:blipFill>
        <p:spPr>
          <a:xfrm>
            <a:off x="5076720" y="2852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Small_№ 4  DSCF7882"/>
          <p:cNvPicPr/>
          <p:nvPr/>
        </p:nvPicPr>
        <p:blipFill>
          <a:blip r:embed="rId5"/>
          <a:stretch/>
        </p:blipFill>
        <p:spPr>
          <a:xfrm>
            <a:off x="6588000" y="436572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0000"/>
                </a:solidFill>
                <a:latin typeface="Arial"/>
              </a:rPr>
              <a:t>Заходи з військово-патріотичного виховання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Ліцей з посиленою військово-фізичною підготовкою «Патріот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Зустріч ліцеїстів із ветеранами війн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Участь ліцеїстів в урочистостях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у Національній академії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Національно гвардії України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приурочених 26-й річниці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виведення військ із Афганістану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" descr="ПРО ВІЙНУ З ПЕРШИХ УСТ..."/>
          <p:cNvPicPr/>
          <p:nvPr/>
        </p:nvPicPr>
        <p:blipFill>
          <a:blip r:embed="rId1"/>
          <a:stretch/>
        </p:blipFill>
        <p:spPr>
          <a:xfrm>
            <a:off x="6588000" y="2421000"/>
            <a:ext cx="2171880" cy="16286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У ГОСТЯХ В НАЦІОНАЛЬНІЙ АКАДЕМІЇ НАЦІОНАЛЬНОЇ ГВАРДІЇ УКРАЇНИ"/>
          <p:cNvPicPr/>
          <p:nvPr/>
        </p:nvPicPr>
        <p:blipFill>
          <a:blip r:embed="rId2"/>
          <a:stretch/>
        </p:blipFill>
        <p:spPr>
          <a:xfrm>
            <a:off x="5508720" y="3573360"/>
            <a:ext cx="1377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0000"/>
                </a:solidFill>
                <a:latin typeface="Arial"/>
              </a:rPr>
              <a:t>Заходи з військово-патріотичного виховання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Ліцей з посиленою військово-фізичною підготовкою «Патріот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Verdana"/>
              </a:rPr>
              <a:t>                  </a:t>
            </a: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Виставка малюнків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«Афганістан – мій біль»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Святковий концерт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                                           </a:t>
            </a: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Сторінками історії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Української армії</a:t>
            </a:r>
            <a:r>
              <a:rPr b="0" lang="uk-UA" sz="2200" spc="-1" strike="noStrike">
                <a:solidFill>
                  <a:srgbClr val="ffffff"/>
                </a:solidFill>
                <a:latin typeface="Verdana"/>
              </a:rPr>
              <a:t>»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8" name="" descr="ВИСТАВКА МАЛЮНКІВ &quot;АФГАНІСТАН - МІЙ БІЛЬ&quot;"/>
          <p:cNvPicPr/>
          <p:nvPr/>
        </p:nvPicPr>
        <p:blipFill>
          <a:blip r:embed="rId1"/>
          <a:stretch/>
        </p:blipFill>
        <p:spPr>
          <a:xfrm>
            <a:off x="900000" y="2492280"/>
            <a:ext cx="1357560" cy="24130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2411280" y="3789360"/>
            <a:ext cx="27115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0000"/>
                </a:solidFill>
                <a:latin typeface="Arial"/>
              </a:rPr>
              <a:t>Заходи з військово-патріотичного виховання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Ліцей з посиленою військово-фізичною підготовкою «Патріот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Зустріч ліцеїстів з представникам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Національної академії Державної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прикордонної служби Україн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імені Богдана Хмельницьког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та Окремого регіонального центр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Комплектування Східного регіону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управління Державної прикордонної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служби України                                        ______________________________                                 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2" name="" descr="ЗУСТРІЧ ІЗ ПРИКОРДОННИКАМИ"/>
          <p:cNvPicPr/>
          <p:nvPr/>
        </p:nvPicPr>
        <p:blipFill>
          <a:blip r:embed="rId1"/>
          <a:stretch/>
        </p:blipFill>
        <p:spPr>
          <a:xfrm>
            <a:off x="6012000" y="4221000"/>
            <a:ext cx="2243160" cy="1683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ЗУСТРІЧ ІЗ ПРИКОРДОННИКАМИ"/>
          <p:cNvPicPr/>
          <p:nvPr/>
        </p:nvPicPr>
        <p:blipFill>
          <a:blip r:embed="rId2"/>
          <a:stretch/>
        </p:blipFill>
        <p:spPr>
          <a:xfrm>
            <a:off x="5651640" y="2492280"/>
            <a:ext cx="221436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692000" y="2276640"/>
            <a:ext cx="778644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ff0000"/>
                </a:solidFill>
                <a:latin typeface="Verdana"/>
              </a:rPr>
              <a:t>Дякую за увагу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Завдання військово-патріотичного виховання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7249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uk-UA" sz="1800" spc="-1" strike="noStrike">
                <a:solidFill>
                  <a:srgbClr val="ffffff"/>
                </a:solidFill>
                <a:latin typeface="Britannic Bold"/>
              </a:rPr>
              <a:t>формування  почуття патріотизму, любові до свого народу, його історії, культурних та історичних цінностей;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Britannic Bold"/>
              </a:rPr>
              <a:t>          </a:t>
            </a:r>
            <a:r>
              <a:rPr b="1" lang="uk-UA" sz="1800" spc="-1" strike="noStrike">
                <a:solidFill>
                  <a:srgbClr val="ffffff"/>
                </a:solidFill>
                <a:latin typeface="Britannic Bold"/>
              </a:rPr>
              <a:t>виховання громадянських  почуттів  і  свідомості,  соціальної активності  та відповідальності;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Britannic Bold"/>
              </a:rPr>
              <a:t>         </a:t>
            </a:r>
            <a:r>
              <a:rPr b="1" lang="uk-UA" sz="1800" spc="-1" strike="noStrike">
                <a:solidFill>
                  <a:srgbClr val="ffffff"/>
                </a:solidFill>
                <a:latin typeface="Britannic Bold"/>
              </a:rPr>
              <a:t>формування здібностей   до  аналізу     зовнішньої     та внутрішньополітичної  обстановки,  вміння на цій основі самостійно адекватно оцінювати події, що відбуваються у державі і світі;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Britannic Bold"/>
              </a:rPr>
              <a:t>          </a:t>
            </a:r>
            <a:r>
              <a:rPr b="1" lang="uk-UA" sz="1800" spc="-1" strike="noStrike">
                <a:solidFill>
                  <a:srgbClr val="ffffff"/>
                </a:solidFill>
                <a:latin typeface="Britannic Bold"/>
              </a:rPr>
              <a:t>створення нормативно-правової бази та комплексу заходів  щодо виховання патріотичних почуттів і свідомості громадян України;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Britannic Bold"/>
              </a:rPr>
              <a:t>         </a:t>
            </a:r>
            <a:r>
              <a:rPr b="1" lang="uk-UA" sz="1800" spc="-1" strike="noStrike">
                <a:solidFill>
                  <a:srgbClr val="ffffff"/>
                </a:solidFill>
                <a:latin typeface="Britannic Bold"/>
              </a:rPr>
              <a:t>формування прагнення   до  оволодіння військовими  знаннями, відповідного рівня фізичної підготовки та витривалості;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Britannic Bold"/>
              </a:rPr>
              <a:t>         </a:t>
            </a:r>
            <a:r>
              <a:rPr b="1" lang="uk-UA" sz="1800" spc="-1" strike="noStrike">
                <a:solidFill>
                  <a:srgbClr val="ffffff"/>
                </a:solidFill>
                <a:latin typeface="Britannic Bold"/>
              </a:rPr>
              <a:t>підвищення престижу військової служби,  військова  професійна орієнтація молоді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Britannic Bold"/>
              </a:rPr>
              <a:t>        </a:t>
            </a:r>
            <a:r>
              <a:rPr b="1" lang="uk-UA" sz="1800" spc="-1" strike="noStrike">
                <a:solidFill>
                  <a:srgbClr val="ffffff"/>
                </a:solidFill>
                <a:latin typeface="Britannic Bold"/>
              </a:rPr>
              <a:t>створення системи військово-патріотичного вихованн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1341360"/>
            <a:ext cx="287280" cy="27936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1989000"/>
            <a:ext cx="287280" cy="27936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2781360"/>
            <a:ext cx="287280" cy="27936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3716280"/>
            <a:ext cx="287280" cy="27936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4437000"/>
            <a:ext cx="287280" cy="27936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5157720"/>
            <a:ext cx="287280" cy="27936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5877000"/>
            <a:ext cx="287280" cy="27936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Напрями військово-патріотичного вихованн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549360"/>
            <a:ext cx="649080" cy="5948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32000" y="907920"/>
            <a:ext cx="2016000" cy="720720"/>
          </a:xfrm>
          <a:prstGeom prst="wedgeRoundRectCallout">
            <a:avLst>
              <a:gd name="adj1" fmla="val -45120"/>
              <a:gd name="adj2" fmla="val 70046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Verdana"/>
              </a:rPr>
              <a:t>Держав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32000" y="1989000"/>
            <a:ext cx="1944720" cy="720720"/>
          </a:xfrm>
          <a:prstGeom prst="wedgeRoundRectCallout">
            <a:avLst>
              <a:gd name="adj1" fmla="val -44939"/>
              <a:gd name="adj2" fmla="val 70046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Verdana"/>
              </a:rPr>
              <a:t>Соціаль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58920" y="2997360"/>
            <a:ext cx="1944720" cy="720720"/>
          </a:xfrm>
          <a:prstGeom prst="wedgeRoundRectCallout">
            <a:avLst>
              <a:gd name="adj1" fmla="val -44939"/>
              <a:gd name="adj2" fmla="val 70046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Verdana"/>
              </a:rPr>
              <a:t>Військо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32000" y="4076640"/>
            <a:ext cx="1871640" cy="720720"/>
          </a:xfrm>
          <a:prstGeom prst="wedgeRoundRectCallout">
            <a:avLst>
              <a:gd name="adj1" fmla="val -44740"/>
              <a:gd name="adj2" fmla="val 70046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Verdana"/>
              </a:rPr>
              <a:t>Психолого-педагогіч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32000" y="5157720"/>
            <a:ext cx="1800000" cy="720720"/>
          </a:xfrm>
          <a:prstGeom prst="wedgeRoundRectCallout">
            <a:avLst>
              <a:gd name="adj1" fmla="val -44532"/>
              <a:gd name="adj2" fmla="val 70046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Verdana"/>
              </a:rPr>
              <a:t>Право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67120" y="92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35280" y="981000"/>
            <a:ext cx="48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Забезпечення   державою   системи </a:t>
            </a:r>
            <a:br>
              <a:rPr sz="1800"/>
            </a:b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військово-патріотичного вихован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35280" y="1773360"/>
            <a:ext cx="51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Усвідомлення  пріоритету загаль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людських  цінностей, виховання шанобливого ставлення до культури, історії, мови,  звичаїв  і  традиці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35280" y="3068640"/>
            <a:ext cx="47340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Вивчення військової історії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підвищення фізичної загартованості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4005360"/>
            <a:ext cx="55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Вивчення психологічних  особливостей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молоді,  поширення   передового    досвіду військово-патріотичного вихован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57400" y="5084640"/>
            <a:ext cx="48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Формування  глибоких  правових  знань, </a:t>
            </a:r>
            <a:br>
              <a:rPr sz="1800"/>
            </a:b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прищеплення високої правової культур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Функції місцевих органів управління освітою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413000"/>
            <a:ext cx="7057800" cy="79200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cc"/>
                </a:solidFill>
                <a:latin typeface="Verdana"/>
              </a:rPr>
              <a:t>Забезпечення виконання заходів 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66cc"/>
                </a:solidFill>
                <a:latin typeface="Verdana"/>
              </a:rPr>
              <a:t>військово-патріотичного вихован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2349360"/>
            <a:ext cx="7057800" cy="79236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cc"/>
                </a:solidFill>
                <a:latin typeface="Verdana"/>
              </a:rPr>
              <a:t>Організація проведення навчально-польових заня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3284640"/>
            <a:ext cx="7058160" cy="79200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cc"/>
                </a:solidFill>
                <a:latin typeface="Verdana"/>
              </a:rPr>
              <a:t>Сприяння створенню навчально-матеріальної баз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4221000"/>
            <a:ext cx="7058160" cy="79236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cc"/>
                </a:solidFill>
                <a:latin typeface="Verdana"/>
              </a:rPr>
              <a:t>Надання допомоги навчальним заклада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cc"/>
                </a:solidFill>
                <a:latin typeface="Verdana"/>
              </a:rPr>
              <a:t>у встановленні та розвитку шефських зв</a:t>
            </a:r>
            <a:r>
              <a:rPr b="1" lang="en-US" sz="1800" spc="-1" strike="noStrike">
                <a:solidFill>
                  <a:srgbClr val="0066cc"/>
                </a:solidFill>
                <a:latin typeface="Verdana"/>
              </a:rPr>
              <a:t>‘</a:t>
            </a:r>
            <a:r>
              <a:rPr b="1" lang="uk-UA" sz="1800" spc="-1" strike="noStrike">
                <a:solidFill>
                  <a:srgbClr val="0066cc"/>
                </a:solidFill>
                <a:latin typeface="Verdana"/>
              </a:rPr>
              <a:t>язкі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08000" y="5229360"/>
            <a:ext cx="7058160" cy="79200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cc"/>
                </a:solidFill>
                <a:latin typeface="Verdana"/>
              </a:rPr>
              <a:t>Вивчення, узагальнення і поширенн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cc"/>
                </a:solidFill>
                <a:latin typeface="Verdana"/>
              </a:rPr>
              <a:t>позитивного досві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Наказ Міністерства освіти і науки України від 27.10.2014 № 1232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 Про затвердження плану заходів щодо посилення національно-патріотичного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виховання дітей та учнівської молоді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Відповідальні за виконання 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Плану заході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партамент загальної середньої та дошкільної осві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партамент вищої осві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партамент професійно-технічної осві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нститут інноваційних технологій і змісту осві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сцеві органи управління освіто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Заходи, за виконання яких відповідають місцеві органи управління освітою (постійно)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ктивізація впровадження нових форм, методів національно-патріотичного вихованн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оведення тематичних заходів, присвячених героїчним подвигам українських воїні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осилення співпраці з органами військового управлінн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оведення спільно з громадськими організаціями Всеукраїнської дитячо-юнацької військово-патріотичної гри “Сокіл” (“Джура”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7:43:15Z</dcterms:created>
  <dc:creator>Майский Г.Ю.</dc:creator>
  <dc:description/>
  <dc:language>en-US</dc:language>
  <cp:lastModifiedBy>www.PHILka.RU</cp:lastModifiedBy>
  <dcterms:modified xsi:type="dcterms:W3CDTF">2015-05-07T03:36:16Z</dcterms:modified>
  <cp:revision>36</cp:revision>
  <dc:subject/>
  <dc:title>Слайд 1</dc:title>
</cp:coreProperties>
</file>