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BF79-E624-485C-A0AE-5FF79894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8D38-A5C6-4621-B997-CC804C9D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71D5-F7DA-4381-86A1-FC6EAFDE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89F1-5B50-4CF1-9200-DAD523ED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3D8E-0C0B-4834-9359-6C42751B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FBA7-AC5B-4947-ABE2-F2CA922E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7984-DC63-452C-8B74-200C11A4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954A-E868-46E5-90AB-2A04E665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D8D9-7DD3-422E-A107-73B2F69A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E06D-FE16-49FE-9DAA-D87F9D6B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F95C-3E5A-4D8D-83E1-52BB9F8E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EC6E-17ED-4D01-B1E3-F753502B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1F28-6394-43C1-94AA-625285C9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2F28-A502-4891-BDFE-54C61D90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A165-4180-4529-9CB5-50B0B30B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8C99-C6A7-4E35-AB17-9F8784E6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9806-69E6-496B-900B-AD64BF48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DAE5-F2C8-44B3-ACE4-74306D96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1D50-5395-461D-880E-3E924BB4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8689-0913-4D2C-BC3D-E1635B98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6A2B-35E2-4B1C-BA03-85BA71E9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3DB3-4A40-4D70-8DA0-9E819B52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982A-565E-47ED-9FEE-362B11AE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4ED6-44EB-4DDD-AD8D-5B029697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5714-35B0-4222-B6A0-5D06CE0594C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CAE5-6CC7-4C70-A0F3-8B02326D350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ua/imgres?imgurl=http://ukranews.com/uploads/news/2009/12/01/131563eaea69878470e4e3114bd79fecfc4da8a9.jpg&amp;imgrefurl=http://news.if.ua/day/2010-2-19.html&amp;usg=__NMY4Rhg1RheUMcvWPbpYwgRBNOw=&amp;h=240&amp;w=320&amp;sz=17&amp;hl=ru&amp;start=98&amp;itbs=1&amp;tbnid=6sY9cPK6OBocFM:&amp;tbnh=89&amp;tbnw=118&amp;prev=/images%3Fq%3D%25D0%25B7%25D0%25BB%25D0%25BE%25D1%2587%25D0%25B8%25D0%25BD%26start%3D80%26hl%3Dru%26sa%3DN%26gbv%3D2%26ndsp%3D20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.ua/imgres?imgurl=http://clipnews.info/img/top/2008112903401360889811524557.jpg&amp;imgrefurl=http://clipnews.info/newstopic.htm%3Fid%3D5459&amp;usg=__FI1aRgJklcm9nMBtwuv4hOeM4d4=&amp;h=210&amp;w=270&amp;sz=10&amp;hl=ru&amp;start=37&amp;itbs=1&amp;tbnid=pjpIf_pmB7ISkM:&amp;tbnh=88&amp;tbnw=113&amp;prev=/images%3Fq%3D%25D0%25BC%25D0%25B0%25D0%25BB%25D0%25BE%25D0%25BB%25D1%2596%25D1%2582%25D0%25BD%25D1%2596%2B%25D0%25B7%25D0%25BB%25D0%25BE%25D1%2587%25D0%25B8%25D0%25BD%25D1%2586%25D1%2596%26start%3D20%26hl%3Dru%26sa%3DN%26gbv%3D2%26ndsp%3D20%26tbs%3Disch:1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ua/imgres?imgurl=http://prosto.lutsk.ua/files/images/naruchnyky.jpg&amp;imgrefurl=http://prosto.lutsk.ua/news/u-lutsku-kilkist-zlochiniv-za-p-yat-misyatsiv-zrosla-na-68&amp;usg=__V8YWorgIYi9CCb4jJOji0XxRZXQ=&amp;h=285&amp;w=475&amp;sz=13&amp;hl=ru&amp;start=1&amp;itbs=1&amp;tbnid=sT6lA7yYALWpEM:&amp;tbnh=77&amp;tbnw=129&amp;prev=/images%3Fq%3D%25D0%25B7%25D0%25BB%25D0%25BE%25D1%2587%25D0%25B8%25D0%25BD%26hl%3Dru%26gbv%3D2%26tbs%3Disch:1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3"/>
          <p:cNvSpPr txBox="1"/>
          <p:nvPr/>
        </p:nvSpPr>
        <p:spPr>
          <a:xfrm>
            <a:off x="357120" y="1143000"/>
            <a:ext cx="8429760" cy="1349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Arial"/>
              </a:rPr>
              <a:t>Профілактика правопорушень у школі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Arial"/>
              <a:ea typeface="Arial"/>
            </a:endParaRPr>
          </a:p>
        </p:txBody>
      </p:sp>
      <p:pic>
        <p:nvPicPr>
          <p:cNvPr id="153" name="Picture 6" descr="131563eaea69878470e4e3114bd79fecfc4da8a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933720"/>
            <a:ext cx="2736720" cy="2065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200811290340136088981152455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33800" y="3009960"/>
            <a:ext cx="176220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ff"/>
                </a:solidFill>
                <a:uFillTx/>
                <a:latin typeface="Tahoma"/>
              </a:rPr>
              <a:t>Ст.18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Ухилення батьків, або осіб, що їх замінюють від виконання передбачених законодавством обов'язків щодо забезпечення необхідних умов життя, навчання та виховання неповнолітніх дітей – тягне за собою попередження або накладання штрафу від одного до трьох неоподаткованих мінімумів доходів громадян (якщо повторні дії – від 2 до 4; за вчинення неповнолітнім злочину – від 10 до 20 неоподаткованих мінімумів доходів громадян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4477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cc66"/>
                </a:solidFill>
                <a:latin typeface="Arial"/>
              </a:rPr>
              <a:t>Кодекс України </a:t>
            </a:r>
            <a:br>
              <a:rPr sz="3600"/>
            </a:br>
            <a:r>
              <a:rPr b="0" lang="uk-UA" sz="3600" spc="-1" strike="noStrike">
                <a:solidFill>
                  <a:srgbClr val="ffcc66"/>
                </a:solidFill>
                <a:latin typeface="Arial"/>
              </a:rPr>
              <a:t>про адміністративні правопорушення</a:t>
            </a:r>
            <a:endParaRPr b="0" lang="en-US" sz="3600" spc="-1" strike="noStrike">
              <a:solidFill>
                <a:srgbClr val="00a29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a29e"/>
                </a:solidFill>
                <a:latin typeface="Arial"/>
              </a:rPr>
              <a:t>Цивільний кодекс України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8080"/>
                </a:solidFill>
                <a:uFillTx/>
                <a:latin typeface="Tahoma"/>
              </a:rPr>
              <a:t>Ст. 17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8080"/>
                </a:solidFill>
                <a:latin typeface="Tahoma"/>
              </a:rPr>
              <a:t>Відшкодування шкоди, завданої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8080"/>
                </a:solidFill>
                <a:latin typeface="Tahoma"/>
              </a:rPr>
              <a:t>малолітньою особо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1. Шкода завдана малолітньою особою (яка не досягла 14 років), відшкодовується її батьками, якщо вони не доведуть, що шкода не є наслідком несумлінного здійснення або ухилення ними від здійснення виховання та нагляду за малолітньою особо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a29e"/>
                </a:solidFill>
                <a:latin typeface="Arial"/>
              </a:rPr>
              <a:t>Цивільний кодекс України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8080"/>
                </a:solidFill>
                <a:uFillTx/>
                <a:latin typeface="Tahoma"/>
              </a:rPr>
              <a:t>Ст. 17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8080"/>
                </a:solidFill>
                <a:latin typeface="Tahoma"/>
              </a:rPr>
              <a:t>Відшкодування шкоди, завданої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8080"/>
                </a:solidFill>
                <a:latin typeface="Tahoma"/>
              </a:rPr>
              <a:t>неповнолітньою особо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4477de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Неповнолітня особа (віком від 14 до 18 років) відповідає за завдану шкоду самостійно на загальних підстав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4477de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У разі відсутності у неповнолітньої особи майна, достатнього для відшкодування завданої нею шкоди, ця шкода відшкодовується її батька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a29e"/>
                </a:solidFill>
                <a:latin typeface="Arial"/>
              </a:rPr>
              <a:t>Цивільний кодекс України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8080"/>
                </a:solidFill>
                <a:uFillTx/>
                <a:latin typeface="Tahoma"/>
              </a:rPr>
              <a:t>Ст. 18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8080"/>
                </a:solidFill>
                <a:latin typeface="Tahoma"/>
              </a:rPr>
              <a:t>Відшкодування шкоди, завданої кількома неповнолітніми особ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1. Шкода завдана спільними діями кількох неповнолітніх осіб, відшкодовується ними у частині, яка визначається за домовленістю між ними або за рішенням суд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римінальний кодекс України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ff"/>
                </a:solidFill>
                <a:uFillTx/>
                <a:latin typeface="Tahoma"/>
              </a:rPr>
              <a:t>Ст. 22.</a:t>
            </a:r>
            <a:r>
              <a:rPr b="1" lang="uk-UA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ahoma"/>
              </a:rPr>
              <a:t>Вік, з якого може наставати кримінальна відповідальні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Кримінальній відповідальності підлягають особи, яким на момент вчинення злочину виповнилося 16 рокі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Особи, що вчинили злочин у віці від 14 до 16 років підлягають кримінальній відповідальності лише за умисне вбивств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ff"/>
                </a:solidFill>
                <a:uFillTx/>
                <a:latin typeface="Tahoma"/>
              </a:rPr>
              <a:t>Ст.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ahoma"/>
              </a:rPr>
              <a:t>(1) До неповнолітніх можуть бути застосовані такі основні види покарань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А) штраф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Б) громадські робо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) виправні робо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Г) арешт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Д) позбавлення волі на певний стро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римінальний</a:t>
            </a:r>
            <a:r>
              <a:rPr b="0" lang="uk-UA" sz="4400" spc="-1" strike="noStrike">
                <a:solidFill>
                  <a:srgbClr val="00a29e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одекс України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ff"/>
                </a:solidFill>
                <a:uFillTx/>
                <a:latin typeface="Tahoma"/>
              </a:rPr>
              <a:t>Ст.1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ahoma"/>
              </a:rPr>
              <a:t>(2) Суд застосовує до неповнолітнього такі примусові заходи виховного характеру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А) застереженн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Б) обмеження дозвілля і встановлення особливих вимог до поведінки неповнолітнього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В) передача неповнолітнього під нагляд батьків, чи осіб, які їх замінюють, чи нагляд педагогічного чи трудового колективу за його згодою, а також окремих громадян на їхнє проханн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Г) покладання на неповнолітнього, який досяг 15-річного віку і має майно, кошти або заробіток, обов'язку відшкодування заподіяних майнових збиткі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Д) направлення неповнолітнього до спеціальної  навчально-виховної установи для дітей і підлітків до його виправлення, але на строк, який не перевищує трьох рокі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римінальний кодекс України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арний кодекс України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ahoma"/>
              </a:rPr>
              <a:t>Ст.173. Дрібне хуліганст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Дрібне хуліганство, тобто нецензурна лайка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в суспільних   місцях, образливі чіпляння до громадян тягне накладення штрафу 3-7 неоподаткованих  мінімумів або виправні роботи, арешт до 15 діб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57280" y="42840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a29e"/>
                </a:solidFill>
                <a:latin typeface="Arial"/>
              </a:rPr>
              <a:t>На яку відповідальність заслуговують наступні вчинки:</a:t>
            </a:r>
            <a:endParaRPr b="0" lang="en-US" sz="2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500040" y="1571760"/>
            <a:ext cx="7643880" cy="484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1.  Хлопчики  (14  років)  грали  у  футбол.  М’яч  відлет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і влучив у вітрину магазина. Скло розбилося. Чи несуть під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літки яку-небудь відповідальніст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2. Микола (12 років) стріляв з рогатки у птахів біля дитячого майданчика і ненавмисно влучив в око Василь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Той з травмою довго перебував у лікарні й в результаті перест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бачити на одне око. Чи несе Микола відповідальність? Якщ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ні, то х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928800" y="1092600"/>
            <a:ext cx="771516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тя (16 років) украла з вітрини магазину красиві дорогі окуляри. Чи несе відповідальність дівчина? Якщо так, то я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Хлопці на шкільній дискотеці розпили пляшку горілки і почали чіплятися до дівчат. Чи несуть підлітки відповідальність за свої дії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равопорушення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68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ротиправна поведінка, що суперечить нормам права, порушує певні правові вимог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Шкідлива поведінка (шкода може бути фізичною, матеріальною моральною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539640" y="4653000"/>
            <a:ext cx="7848720" cy="1800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равопоруше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юридична відповідаль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4211640" y="5229360"/>
            <a:ext cx="576360" cy="720720"/>
          </a:xfrm>
          <a:prstGeom prst="downArrow">
            <a:avLst>
              <a:gd name="adj1" fmla="val 50000"/>
              <a:gd name="adj2" fmla="val 3126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1071720" y="875520"/>
            <a:ext cx="7572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Троє хлопців (14, 15 і 16 років) пізно ввечері зупин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жого і відібрали у нього гроші. Чи несуть підлітки відповідальність за свої дії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Максим (14 років) катався на велосипеді й збив перехожого з дорогим магнітофоном в руках. Магнітофон розбив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несе Максим відповідальність? Якщо так, то я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a29e"/>
                </a:solidFill>
                <a:latin typeface="Arial"/>
              </a:rPr>
              <a:t>Вправа «Трансплантація серця» 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071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У  лікарні  перебувають  хворі,  що  потребують пересадки серця. Усі вони не в тяжкому стані, проте для пересадки є тільки одне серц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Список пацієнтів у порядку зарахування їх до клініки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- бізнесмен – 29 років, може надати лікарні матеріальну допомогу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- жінка – 65 років, має шестеро дітей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- чоловік – 33 роки, священнослужитель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- дівчина – 19 років, наркоманка, неодноразові спроби самогубства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- чоловік – 37 років, заступник міністра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- чоловік – 40 років, будівельник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- жінка – 35 років, видатний лікар-онколог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- молодий чоловік – 22 роки, ВІЛ-інфіковани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Учасники  виступають  в  ролі  лікарів-кардіохірургів,  які працюють у лікарні й вирішують, кому з хворих першому буде зроблено  пересадку  і  в  якому  порядку  будуть  проводитися операції надалі. Потрібно обґрунтувати свій вибір. Кожна  підгрупа  отримує  список  пацієнтів  у  порядку зарахування їх до кліні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a29e"/>
                </a:solidFill>
                <a:latin typeface="Arial"/>
              </a:rPr>
              <a:t>Вправа “ Проблема - рішення ”</a:t>
            </a:r>
            <a:endParaRPr b="0" lang="en-US" sz="2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04" name="Прямоугольник 2"/>
          <p:cNvSpPr/>
          <p:nvPr/>
        </p:nvSpPr>
        <p:spPr>
          <a:xfrm>
            <a:off x="571680" y="1785960"/>
            <a:ext cx="8001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вці витягають по п'ять карт, дивляться на них, не показуючи іншим учасникам. Перший гравець кладе картку обличчям догори на стіл, описуючи коротко проблему, відображену на цій картці. Будь-який інший гравець може запропонувати карту - пояснення того, як можна вирішити цю проблему, її можливе рішення. Ця картка кладеться поруч з першою. Наступний гравець оголошує нову проблему, кладучи нову картку на стіл, і коротко описуючи її. Рішення знаходиться, як і раніше іншим гравцем і з допомогою іншої карти. Гра продовжується до тих пір, поки всі карти на руках не будуть відіграні. Важливо, щоб всі гравці змогли заявити проблему, і взяти участь в рішенн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інці дискусії гравці можуть запитати себе: «Чого я навчився?», «Яким був мій внесок?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a29e"/>
                </a:solidFill>
                <a:latin typeface="Arial"/>
              </a:rPr>
              <a:t>За різні правопорушення -</a:t>
            </a:r>
            <a:br>
              <a:rPr sz="4000"/>
            </a:br>
            <a:r>
              <a:rPr b="0" lang="uk-UA" sz="4000" spc="-1" strike="noStrike">
                <a:solidFill>
                  <a:srgbClr val="00a29e"/>
                </a:solidFill>
                <a:latin typeface="Arial"/>
              </a:rPr>
              <a:t>відповідна відповідальність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50920" y="1557360"/>
            <a:ext cx="201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исциплінар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2124000" y="2060640"/>
            <a:ext cx="2232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адміністрати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4211640" y="2565360"/>
            <a:ext cx="2448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цивільно-прав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6516720" y="3068640"/>
            <a:ext cx="2448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риміналь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250920" y="2060640"/>
            <a:ext cx="1873080" cy="2519280"/>
          </a:xfrm>
          <a:custGeom>
            <a:avLst/>
            <a:gdLst>
              <a:gd name="textAreaLeft" fmla="*/ 91440 w 1873080"/>
              <a:gd name="textAreaRight" fmla="*/ 1781640 w 1873080"/>
              <a:gd name="textAreaTop" fmla="*/ 91440 h 2519280"/>
              <a:gd name="textAreaBottom" fmla="*/ 2427840 h 2519280"/>
            </a:gdLst>
            <a:ahLst/>
            <a:rect l="textAreaLeft" t="textAreaTop" r="textAreaRight" b="textAreaBottom"/>
            <a:pathLst>
              <a:path w="21600" h="29050">
                <a:moveTo>
                  <a:pt x="3600" y="0"/>
                </a:moveTo>
                <a:arcTo wR="3600" hR="3600" stAng="16200000" swAng="-5400000"/>
                <a:lnTo>
                  <a:pt x="0" y="25450"/>
                </a:lnTo>
                <a:arcTo wR="3600" hR="3600" stAng="10800000" swAng="-5400000"/>
                <a:lnTo>
                  <a:pt x="18000" y="290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9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виконане домашнє завдан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рушено дисципліну на уроц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пізнення на у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9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4284720" y="3068640"/>
            <a:ext cx="2160360" cy="1152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185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бив скл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5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ламав пар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5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іпсував зам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5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5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1"/>
          <p:cNvSpPr/>
          <p:nvPr/>
        </p:nvSpPr>
        <p:spPr>
          <a:xfrm>
            <a:off x="2195640" y="2565360"/>
            <a:ext cx="1944720" cy="35276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3527640"/>
              <a:gd name="textAreaBottom" fmla="*/ 3432960 h 3527640"/>
            </a:gdLst>
            <a:ahLst/>
            <a:rect l="textAreaLeft" t="textAreaTop" r="textAreaRight" b="textAreaBottom"/>
            <a:pathLst>
              <a:path w="21600" h="39178">
                <a:moveTo>
                  <a:pt x="3600" y="0"/>
                </a:moveTo>
                <a:arcTo wR="3600" hR="3600" stAng="16200000" swAng="-5400000"/>
                <a:lnTo>
                  <a:pt x="0" y="35578"/>
                </a:lnTo>
                <a:arcTo wR="3600" hR="3600" stAng="10800000" swAng="-5400000"/>
                <a:lnTo>
                  <a:pt x="18000" y="391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рушення правил дорожнього рух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їзд без квит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пиття алкоголю в громадських місц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цензурні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6732720" y="3573360"/>
            <a:ext cx="2087280" cy="201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185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бив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5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вдання людині тілесних пошкоджен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5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радіж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5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хуліг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5760"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5" descr="naruchnyk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661000"/>
            <a:ext cx="1656000" cy="988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7" descr="m-00010813-a-00002139"/>
          <p:cNvPicPr/>
          <p:nvPr/>
        </p:nvPicPr>
        <p:blipFill>
          <a:blip r:embed="rId3"/>
          <a:stretch/>
        </p:blipFill>
        <p:spPr>
          <a:xfrm>
            <a:off x="4572000" y="436572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9" descr="3AEC4E45-E7B2-4A3E-8C56-5A4B361EC4DF_mw800_mh600"/>
          <p:cNvPicPr/>
          <p:nvPr/>
        </p:nvPicPr>
        <p:blipFill>
          <a:blip r:embed="rId4"/>
          <a:stretch/>
        </p:blipFill>
        <p:spPr>
          <a:xfrm>
            <a:off x="857160" y="5643720"/>
            <a:ext cx="115272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a29e"/>
                </a:solidFill>
                <a:latin typeface="Arial"/>
              </a:rPr>
              <a:t>Загальна інформація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На сьогоднішній день проблема правопорушень неповнолітніх є і залишається однією з гострих проблем українського суспільства. Над пошуком шляхів її вирішення працює широке коло фахівців різних наукових галузей: кримінології, юриспруденції, психології, педагогіки, соціальної педагогіки, соціології, правознавства тощ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За статистичними даними на сьогодні злочинність неповнолітніх має таку структуру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ahoma"/>
              </a:rPr>
              <a:t>злочини, пов’язані з наркотиками – 2,8 %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ahoma"/>
              </a:rPr>
              <a:t>хуліганство – 6,2 %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ahoma"/>
              </a:rPr>
              <a:t>крадіжки – 70,5 %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ahoma"/>
              </a:rPr>
              <a:t>злочини проти життя та здоров’я – 2,1 %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ahoma"/>
              </a:rPr>
              <a:t>інше – 9,4 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uk-UA" sz="4400" spc="-1" strike="noStrike">
                <a:solidFill>
                  <a:srgbClr val="00a29e"/>
                </a:solidFill>
                <a:latin typeface="Arial"/>
              </a:rPr>
              <a:t>Основними причинами правопорушень неповнолітніх є: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2142720"/>
            <a:ext cx="822960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Несприятливе сімейне оточення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(сорок відсотків неповнолітніх правопорушників виховувалося в неблагополучних сім’ях: з них 30 % – у неповних, 45% – у конфліктних, 25 % - в асоціальних і кримінальних сім’ях). У той же час шістдесят відсотків неповнолітніх правопорушників виховувалося в зовнішньо благополучних сім’ях, проте, з них 55 % виховувалося в матеріально незабезпечених сім’ях, 35 % – у сім’ях із низьким культурно-освітнім рівнем батьків, а 10 % – у досить заможних родинах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a29e"/>
                </a:solidFill>
                <a:latin typeface="Arial"/>
              </a:rPr>
              <a:t>Негативний вплив позашкільного середовища: 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Незацікавленість учнів призводить до незайнятості вільного часу дітей та підлітків (в Україні три тисячі населених пунктів не мають жодного закладу культури, 6,5 тисяч культурних закладів зачинено, а ще 500 знаходяться в аварійному стані); негативний вплив засобів масової інформації, що пропагують культ фізичної сили та агресі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1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a2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a29e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ікові особливості психіки підлітків, які сприяють антисуспільним проявам</a:t>
            </a:r>
            <a:r>
              <a:rPr b="0" lang="uk-UA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(акцентуація характеру, реакція групування, реакція емансипації, почуття дорослості, прагнення до самоствердження, емоційна неврівноваженість, підвищена збудливість, комфортність тощо).</a:t>
            </a:r>
            <a:br>
              <a:rPr sz="2800"/>
            </a:br>
            <a:br>
              <a:rPr sz="2800"/>
            </a:br>
            <a:r>
              <a:rPr b="0" lang="uk-UA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Біологічними та генетичними причинами вчинення неповнолітніми </a:t>
            </a:r>
            <a:r>
              <a:rPr b="0" lang="uk-UA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авопорушень є порушення роботи ферментативної та гормональної систем організму; вроджені психопатії; мінімальні мозкові дисфункції внаслідок органічного враження головного мозку.</a:t>
            </a:r>
            <a:br>
              <a:rPr sz="2800"/>
            </a:br>
            <a:r>
              <a:rPr b="0" lang="uk-UA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1"/>
          <p:cNvSpPr/>
          <p:nvPr/>
        </p:nvSpPr>
        <p:spPr>
          <a:xfrm>
            <a:off x="285840" y="243000"/>
            <a:ext cx="8572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0000"/>
                </a:solidFill>
                <a:latin typeface="Arial"/>
              </a:rPr>
              <a:t>За глибиною та стійкістю антисоціальної спрямованості злочинців розподіляють на такі категорії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- ситуативний – злочин вчинено під впливом несприятливих обстави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- випадковий – злочин вчинено вперше, а злочинець до цього характеризувався соціально позитивною поведінко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- нестійкий – особа вчинила злочин уперше, проте раніше мала делінквентну поведінк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- злісний – особа раніше вчиняла злочини, проте не притягувалася до відповідальності, чи притягувалася без позбавлення вол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- особливо злісний – це рецидивіст, який постійно вчиняє злочини та притягується до відповідальн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ff"/>
                </a:solidFill>
                <a:uFillTx/>
                <a:latin typeface="Tahoma"/>
              </a:rPr>
              <a:t>Ст. 24.</a:t>
            </a:r>
            <a:r>
              <a:rPr b="1" lang="uk-UA" sz="3200" spc="-1" strike="noStrike">
                <a:solidFill>
                  <a:srgbClr val="0000ff"/>
                </a:solidFill>
                <a:latin typeface="Tahoma"/>
              </a:rPr>
              <a:t>  Заходи впливу, що застосовуються до неповнолітні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зобов'язання публічно або в іншій формі попросити вибачення у потерпілог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застереженн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догана або сувора доган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Передача неповнолітнього під нагляд батькам, або особам, що їх замінюють, чи під нагляд педагогічному чи трудовому колективу за їх згодою, а також окремим громадянам на їх прохан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4477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cc66"/>
                </a:solidFill>
                <a:latin typeface="Arial"/>
              </a:rPr>
              <a:t>Кодекс України </a:t>
            </a:r>
            <a:br>
              <a:rPr sz="3600"/>
            </a:br>
            <a:r>
              <a:rPr b="0" lang="uk-UA" sz="3600" spc="-1" strike="noStrike">
                <a:solidFill>
                  <a:srgbClr val="ffcc66"/>
                </a:solidFill>
                <a:latin typeface="Arial"/>
              </a:rPr>
              <a:t>про адміністративні правопорушення</a:t>
            </a:r>
            <a:endParaRPr b="0" lang="en-US" sz="3600" spc="-1" strike="noStrike">
              <a:solidFill>
                <a:srgbClr val="00a29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1:51:42Z</dcterms:created>
  <dc:creator>Server</dc:creator>
  <dc:description/>
  <dc:language>en-US</dc:language>
  <cp:lastModifiedBy>Home</cp:lastModifiedBy>
  <dcterms:modified xsi:type="dcterms:W3CDTF">2015-04-08T14:30:06Z</dcterms:modified>
  <cp:revision>12</cp:revision>
  <dc:subject/>
  <dc:title>Слайд 1</dc:title>
</cp:coreProperties>
</file>