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2D1-1C16-4205-B4C1-127C9ED1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901-FF68-4537-90CE-43565446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9A9-70CF-4416-BBF3-F9030566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3216-F92E-4E3B-8F25-53F02B49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B75-225B-4210-86C8-85B891BB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192-849C-4D5C-9A99-6780ADA1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E9FA-2F79-4A28-BEB3-168DB802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8D7-6A1C-46ED-B3A6-745B99D0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BEA-D017-4C5F-AB08-649455FC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90B-F23A-4D96-888F-8DBBADF5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5FC-64AD-4109-A808-2F83AB5C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72D-F365-4E7F-9EE4-D795B625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986D-3A93-4585-AAD4-565D878DD9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69080" cy="373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Про організацію та проведення </a:t>
            </a: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спортивно-масових заходів  із учнями загальноосвітніх навчальних закладів </a:t>
            </a: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у ІІ півріччі 2015/2016 навчального ро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99880" y="4643280"/>
            <a:ext cx="592956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еренко  Г.А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 методичного кабінет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ділу освіти Чугуївської міської ра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.01.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 та терміни проведення  обласних щорічних змагань  «Спорт протягом житт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1484280"/>
          <a:ext cx="8782200" cy="5191200"/>
        </p:xfrm>
        <a:graphic>
          <a:graphicData uri="http://schemas.openxmlformats.org/drawingml/2006/table">
            <a:tbl>
              <a:tblPr/>
              <a:tblGrid>
                <a:gridCol w="432000"/>
                <a:gridCol w="2222280"/>
                <a:gridCol w="1030320"/>
                <a:gridCol w="1409760"/>
                <a:gridCol w="1623960"/>
                <a:gridCol w="2063880"/>
              </a:tblGrid>
              <a:tr h="666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змаг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ний скл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ін провед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сце провед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стави для провед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хи «Біла тур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824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1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зень 2016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ШК “Гагаринець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порядження голови ХОДА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04.09.2002              № 395 «Про проведення обласних щорічних спортивних змагань «Спорт протягом життя» учнівської та студентської молоді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аз Головного управління освіти і науки ХОДА від 15.12.2008 № 635 «Про  затвердження  Положення про обласні  щорічні спортивні змагання  учнівської та студентської молоді «Спорт протягом життя», зареєстрований у Головному управлінні юстиції у Харківській області 25.12.2008                  № 62/1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агання з легкої атлетики з чотирьох видів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+4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іт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тячо –юнацька спортивна школа Золочівської районної ра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Шкіряний м'яч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+1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но до регламенту Всеукраїнських змагань з футболу  “Шкіряний 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” 2015-2019 р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82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тячі спортивні ігри «Старти наді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+1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тячо –юнацька спортивна школа Золочівської районної ра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70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зкультурно-оздоровчій патріотичний фестиваль школярів «Козацький гар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7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а державна зооветеринарна академ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і документи проведення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іонату України з баскетболу 3х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амент проведення чемпіонату України з баскетболу 3х3 серед команд юнаків та дівчат загальноосвітніх навчальних закладів (Шкільна Баскетбольна Ліга України 3х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ільний наказ Департаменту науки і освіти та Департаменту у справах молоді та спорту Харківської обласної державної адміністрації від 01.12.2015 №499/10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Спортивних ігор школярів Украї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42960" y="506520"/>
          <a:ext cx="8229600" cy="6351480"/>
        </p:xfrm>
        <a:graphic>
          <a:graphicData uri="http://schemas.openxmlformats.org/drawingml/2006/table">
            <a:tbl>
              <a:tblPr/>
              <a:tblGrid>
                <a:gridCol w="701640"/>
                <a:gridCol w="1940040"/>
                <a:gridCol w="1320840"/>
                <a:gridCol w="1695240"/>
                <a:gridCol w="2571840"/>
              </a:tblGrid>
              <a:tr h="852480">
                <a:tc>
                  <a:txBody>
                    <a:bodyPr lIns="0" rIns="0" tIns="0" bIns="0" anchor="t">
                      <a:noAutofit/>
                    </a:bodyPr>
                    <a:p>
                      <a:pPr marL="152280" algn="ctr">
                        <a:lnSpc>
                          <a:spcPts val="1199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 algn="ctr">
                        <a:lnSpc>
                          <a:spcPts val="11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12880" indent="-461880">
                        <a:lnSpc>
                          <a:spcPts val="11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и спор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рміни провед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йонного та облас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тап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рміни провед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українського зональ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тап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рміни провед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інал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українсь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ага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 marL="15228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скетбол юна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ічень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ю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-14 лю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2-06 берез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560">
                <a:tc>
                  <a:txBody>
                    <a:bodyPr lIns="0" rIns="0" tIns="0" bIns="0" anchor="t">
                      <a:noAutofit/>
                    </a:bodyPr>
                    <a:p>
                      <a:pPr marL="15228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скетбол дівч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ічень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ю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-28 лю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-27 берез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3280">
                <a:tc>
                  <a:txBody>
                    <a:bodyPr lIns="0" rIns="0" tIns="0" bIns="0" anchor="t">
                      <a:noAutofit/>
                    </a:bodyPr>
                    <a:p>
                      <a:pPr marL="15228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к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віт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-29 трав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3640">
                <a:tc>
                  <a:txBody>
                    <a:bodyPr lIns="0" rIns="0" tIns="0" bIns="0" anchor="t">
                      <a:noAutofit/>
                    </a:bodyPr>
                    <a:p>
                      <a:pPr marL="15228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ротьба:вільна, греко-ри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з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-24 трав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3280">
                <a:tc>
                  <a:txBody>
                    <a:bodyPr lIns="0" rIns="0" tIns="0" bIns="0" anchor="t">
                      <a:noAutofit/>
                    </a:bodyPr>
                    <a:p>
                      <a:pPr marL="15228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лоспорт-шо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з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-17 квіт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marL="15228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слування на байдарках і ка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віт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13 трав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0" rIns="0" tIns="0" bIns="0" anchor="t">
                      <a:noAutofit/>
                    </a:bodyPr>
                    <a:p>
                      <a:pPr marL="15228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ейбол юна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ічень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ю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-21 лю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-20 берез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 marL="15228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ейбол дівч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ічень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ю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1-06 берез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6-10 квіт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 marL="15228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ейбол пляжний юна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віт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-22 трав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0" rIns="0" tIns="0" bIns="0" anchor="t">
                      <a:noAutofit/>
                    </a:bodyPr>
                    <a:p>
                      <a:pPr marL="15228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ейбол пляжний ді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віт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-22 трав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ндбол юна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ютий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з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3-08 трав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-30 трав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63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ндбол дівч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ютий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з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-22 квіт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-21 трав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3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імнастика спорти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ю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-25 берез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328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імнастика худож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ю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-24 берез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зюдо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віт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-15 трав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гка атле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віт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-22 трав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ніс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стіль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з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3-08 трав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з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6-09 квіт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ртивне орієнт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з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-28 берез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утбол юна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зень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віт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-23 квіт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14 трав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утбол дівч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зень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віт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-29 квіт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-24 трав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ах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віт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-24 трав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рафік проведення спортивних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магань міського рівня у ІІ семестрі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700280"/>
          <a:ext cx="8229600" cy="4927680"/>
        </p:xfrm>
        <a:graphic>
          <a:graphicData uri="http://schemas.openxmlformats.org/drawingml/2006/table">
            <a:tbl>
              <a:tblPr/>
              <a:tblGrid>
                <a:gridCol w="585720"/>
                <a:gridCol w="4899240"/>
                <a:gridCol w="2744640"/>
              </a:tblGrid>
              <a:tr h="73188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пор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 провед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агання з баскетболу серед юнаків та дівчат навчальних закладів мі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3 – 18.03.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зкультурно-оздоровчий патріотичний фестиваль школярів «Козацький гар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2.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тячі спортивні ігр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ти надій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4.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а естафета, присвячена Дню Перемо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5.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ський етап  гри “Джура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05.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gridSpan="3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01.2016  Турнір  «Тисяча команд»  (ЗОШ №1, НВК №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01-27T14:09:25Z</dcterms:modified>
  <cp:revision>205</cp:revision>
  <dc:subject/>
  <dc:title>Національний Кубок шкільного футболу Євро-2012 у Харківській області</dc:title>
</cp:coreProperties>
</file>