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B86-3885-47AB-9D90-47FA3B13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1AE-EA96-4A1B-9620-0C7DD66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A80-3B3D-405C-A40E-EA699528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8D2-DF7D-4799-A51F-918E278B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6237-984B-4117-9C19-EAAFD8F3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671D-66CB-4FA2-AA10-E6EECEE3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C752-DFEC-43E7-9F67-0E05AD70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427-8698-47B5-B421-7E4019E4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ECCF-AB8C-44F5-B552-1C8AFAC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DFC-7F2B-4C15-8FEF-51108002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22F-447C-4CAF-8806-ED08D10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746-B7AF-4FEE-9308-361C1F84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BE5-68C0-499B-85B7-629A569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4914-112B-4FDD-AEBA-D9F3E77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E7F-BB6A-4250-8459-7D28C08E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4F9F-3907-4E7B-87E4-1800791B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DA7-6196-437F-A152-ECBE3AFC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FA5-548B-4BC0-8EDD-D79CF94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721-5D0E-4C80-9FBC-F3E8E38B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680-4A0B-4892-883D-E667635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195-F9E1-4C79-9593-817A087F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44B-9D40-42C2-908E-BB55944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103-DF56-4B8B-AD7F-F606B2E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133-B99C-4958-ACF2-39FFE8A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BB6-9575-4E72-B16E-63A1BD2C6B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CE8-A7FE-471A-8C43-C5F57F8EAE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1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Про стан роботи зі зверненнями громадян </a:t>
            </a:r>
            <a:br>
              <a:rPr sz="4400"/>
            </a:b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 у 2015 році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24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еброва М.В., заступник начальника відділу 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Нормативне забезпечен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052640"/>
            <a:ext cx="842976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онституція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вернення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каз Президента України від 7 лютого 2008 року             № 109/2008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шочергові заходи щодо забезпечення реалізації та гарантування конституційного права на звернення до органів державної влади та органів місцевого самоврядуванн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станова Кабінету Міністрів України від 24 червня 2009 року № 630 «Про затвердження Методики оцінювання рівня організації роботи із зверненнями громадян в органах виконавчої вла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27 грудня 2010 року № 737 «Про вдосконалення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порядження ХОДА від 16 квітня 2015 року № 164 «Про підсумки роботи із зверненнями громадя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міни 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в нормативному забезпеченн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кон України “Про внесення змін до Закону України “Про звернення громадян” щодо електронного звернення та електронної петиці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Рекомендації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288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. Ужити дієвих заходів щодо підвищення виконавської дисципліни при опрацюванні звернень громад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. Забезпечити недопущення фактів формального підходу до роботи зі зверненнями громад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3. Підвищити якість аналітичної роботи зі зверненнями громад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4. Посилити  роз’яснювальну роботу серед працівників навчальних закладів, а питання якості взаємодії педагогічних і батьківських колективів взяти на особливий контр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5. Забезпечити обов’язкове роз’яснення заявникам порядку оскарження прийнятих ріш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ідділ освіти </a:t>
            </a:r>
            <a:br>
              <a:rPr sz="4200"/>
            </a:b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Чугуївської міської рад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1600200"/>
          <a:ext cx="7772400" cy="4246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зверн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Надійш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то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собистому прийом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 вл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видам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озиція (зауваж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а (клопотанн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р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</a:t>
            </a: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ідділ освіти </a:t>
            </a:r>
            <a:br>
              <a:rPr sz="4200"/>
            </a:b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Чугуївської міської рад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600200"/>
          <a:ext cx="7772400" cy="4348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суб'єктом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дивідуаль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кти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типо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 результатам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ішено пози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овлено у задовол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о роз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н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Основні питання, </a:t>
            </a:r>
            <a:br>
              <a:rPr sz="4200"/>
            </a:b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порушені у звернення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4313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ання довідок, роз'ясн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і 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монт, матеріально-технічне забезпеч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іонування 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-етичний клімат в колектив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штування до навчальних заклад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ащення стану справ в освітній галуз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Продовженн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14400" y="1600200"/>
          <a:ext cx="7772400" cy="20224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ічне навантаження, піл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ання матеріальної допом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ші 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Увага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вернення на Урядову гарячу ліні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13 – 1, 2014 – 0,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2015 – 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9T09:35:07Z</dcterms:created>
  <dc:creator>багатька</dc:creator>
  <dc:description/>
  <dc:language>en-US</dc:language>
  <cp:lastModifiedBy>user</cp:lastModifiedBy>
  <dcterms:modified xsi:type="dcterms:W3CDTF">2016-01-26T11:33:29Z</dcterms:modified>
  <cp:revision>51</cp:revision>
  <dc:subject/>
  <dc:title>Про стан роботи зі зверненнями громадян у ІІ кварталі 2014 року</dc:title>
</cp:coreProperties>
</file>